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58400" cy="67024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5985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5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364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4360" y="15681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364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4360" y="3598560"/>
            <a:ext cx="291456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67120"/>
            <a:ext cx="9052200" cy="51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520" y="35985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520" y="1568160"/>
            <a:ext cx="4417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598560"/>
            <a:ext cx="905220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67024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c1ce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0046160" cy="6689880"/>
            <a:chOff x="0" y="0"/>
            <a:chExt cx="10046160" cy="668988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10045800" cy="668988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c1ce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2680"/>
              <a:ext cx="10046160" cy="6463080"/>
            </a:xfrm>
            <a:custGeom>
              <a:avLst/>
              <a:gdLst/>
              <a:ahLst/>
              <a:rect l="0" t="0" r="r" b="b"/>
              <a:pathLst>
                <a:path w="27906" h="17953">
                  <a:moveTo>
                    <a:pt x="27906" y="16764"/>
                  </a:moveTo>
                  <a:lnTo>
                    <a:pt x="4" y="16760"/>
                  </a:lnTo>
                  <a:lnTo>
                    <a:pt x="4" y="17018"/>
                  </a:lnTo>
                  <a:lnTo>
                    <a:pt x="27906" y="17018"/>
                  </a:lnTo>
                  <a:lnTo>
                    <a:pt x="27906" y="17225"/>
                  </a:lnTo>
                  <a:lnTo>
                    <a:pt x="4" y="17229"/>
                  </a:lnTo>
                  <a:lnTo>
                    <a:pt x="4" y="17484"/>
                  </a:lnTo>
                  <a:lnTo>
                    <a:pt x="27906" y="17484"/>
                  </a:lnTo>
                  <a:lnTo>
                    <a:pt x="27906" y="17695"/>
                  </a:lnTo>
                  <a:lnTo>
                    <a:pt x="4" y="17691"/>
                  </a:lnTo>
                  <a:lnTo>
                    <a:pt x="4" y="17953"/>
                  </a:lnTo>
                  <a:lnTo>
                    <a:pt x="27906" y="17953"/>
                  </a:lnTo>
                  <a:lnTo>
                    <a:pt x="27906" y="0"/>
                  </a:lnTo>
                  <a:lnTo>
                    <a:pt x="4" y="0"/>
                  </a:lnTo>
                  <a:lnTo>
                    <a:pt x="4" y="262"/>
                  </a:lnTo>
                  <a:lnTo>
                    <a:pt x="27906" y="258"/>
                  </a:lnTo>
                  <a:lnTo>
                    <a:pt x="27906" y="465"/>
                  </a:lnTo>
                  <a:lnTo>
                    <a:pt x="4" y="465"/>
                  </a:lnTo>
                  <a:lnTo>
                    <a:pt x="4" y="724"/>
                  </a:lnTo>
                  <a:lnTo>
                    <a:pt x="27906" y="728"/>
                  </a:lnTo>
                  <a:lnTo>
                    <a:pt x="27906" y="931"/>
                  </a:lnTo>
                  <a:lnTo>
                    <a:pt x="4" y="931"/>
                  </a:lnTo>
                  <a:lnTo>
                    <a:pt x="4" y="1189"/>
                  </a:lnTo>
                  <a:lnTo>
                    <a:pt x="27906" y="1193"/>
                  </a:lnTo>
                  <a:lnTo>
                    <a:pt x="27906" y="1396"/>
                  </a:lnTo>
                  <a:lnTo>
                    <a:pt x="4" y="1396"/>
                  </a:lnTo>
                  <a:lnTo>
                    <a:pt x="4" y="1655"/>
                  </a:lnTo>
                  <a:lnTo>
                    <a:pt x="27906" y="1655"/>
                  </a:lnTo>
                  <a:lnTo>
                    <a:pt x="27906" y="1862"/>
                  </a:lnTo>
                  <a:lnTo>
                    <a:pt x="4" y="1862"/>
                  </a:lnTo>
                  <a:lnTo>
                    <a:pt x="4" y="2120"/>
                  </a:lnTo>
                  <a:lnTo>
                    <a:pt x="27906" y="2124"/>
                  </a:lnTo>
                  <a:lnTo>
                    <a:pt x="27906" y="2327"/>
                  </a:lnTo>
                  <a:lnTo>
                    <a:pt x="4" y="2327"/>
                  </a:lnTo>
                  <a:lnTo>
                    <a:pt x="4" y="2586"/>
                  </a:lnTo>
                  <a:lnTo>
                    <a:pt x="27906" y="2586"/>
                  </a:lnTo>
                  <a:lnTo>
                    <a:pt x="27906" y="2793"/>
                  </a:lnTo>
                  <a:lnTo>
                    <a:pt x="4" y="2793"/>
                  </a:lnTo>
                  <a:lnTo>
                    <a:pt x="4" y="3051"/>
                  </a:lnTo>
                  <a:lnTo>
                    <a:pt x="27906" y="3055"/>
                  </a:lnTo>
                  <a:lnTo>
                    <a:pt x="27906" y="3258"/>
                  </a:lnTo>
                  <a:lnTo>
                    <a:pt x="4" y="3258"/>
                  </a:lnTo>
                  <a:lnTo>
                    <a:pt x="4" y="3517"/>
                  </a:lnTo>
                  <a:lnTo>
                    <a:pt x="27906" y="3521"/>
                  </a:lnTo>
                  <a:lnTo>
                    <a:pt x="27906" y="3728"/>
                  </a:lnTo>
                  <a:lnTo>
                    <a:pt x="4" y="3724"/>
                  </a:lnTo>
                  <a:lnTo>
                    <a:pt x="4" y="3986"/>
                  </a:lnTo>
                  <a:lnTo>
                    <a:pt x="27906" y="3986"/>
                  </a:lnTo>
                  <a:lnTo>
                    <a:pt x="27906" y="4193"/>
                  </a:lnTo>
                  <a:lnTo>
                    <a:pt x="4" y="4189"/>
                  </a:lnTo>
                  <a:lnTo>
                    <a:pt x="4" y="4448"/>
                  </a:lnTo>
                  <a:lnTo>
                    <a:pt x="27906" y="4452"/>
                  </a:lnTo>
                  <a:lnTo>
                    <a:pt x="27906" y="4656"/>
                  </a:lnTo>
                  <a:lnTo>
                    <a:pt x="4" y="4656"/>
                  </a:lnTo>
                  <a:lnTo>
                    <a:pt x="4" y="4914"/>
                  </a:lnTo>
                  <a:lnTo>
                    <a:pt x="27906" y="4914"/>
                  </a:lnTo>
                  <a:lnTo>
                    <a:pt x="27906" y="5121"/>
                  </a:lnTo>
                  <a:lnTo>
                    <a:pt x="4" y="5121"/>
                  </a:lnTo>
                  <a:lnTo>
                    <a:pt x="4" y="5380"/>
                  </a:lnTo>
                  <a:lnTo>
                    <a:pt x="27906" y="5380"/>
                  </a:lnTo>
                  <a:lnTo>
                    <a:pt x="27906" y="5587"/>
                  </a:lnTo>
                  <a:lnTo>
                    <a:pt x="4" y="5591"/>
                  </a:lnTo>
                  <a:lnTo>
                    <a:pt x="4" y="5849"/>
                  </a:lnTo>
                  <a:lnTo>
                    <a:pt x="27906" y="5845"/>
                  </a:lnTo>
                  <a:lnTo>
                    <a:pt x="27906" y="6052"/>
                  </a:lnTo>
                  <a:lnTo>
                    <a:pt x="4" y="6052"/>
                  </a:lnTo>
                  <a:lnTo>
                    <a:pt x="4" y="6315"/>
                  </a:lnTo>
                  <a:lnTo>
                    <a:pt x="27906" y="6311"/>
                  </a:lnTo>
                  <a:lnTo>
                    <a:pt x="27906" y="6518"/>
                  </a:lnTo>
                  <a:lnTo>
                    <a:pt x="4" y="6518"/>
                  </a:lnTo>
                  <a:lnTo>
                    <a:pt x="4" y="6776"/>
                  </a:lnTo>
                  <a:lnTo>
                    <a:pt x="27906" y="6776"/>
                  </a:lnTo>
                  <a:lnTo>
                    <a:pt x="27906" y="6983"/>
                  </a:lnTo>
                  <a:lnTo>
                    <a:pt x="4" y="6983"/>
                  </a:lnTo>
                  <a:lnTo>
                    <a:pt x="4" y="7242"/>
                  </a:lnTo>
                  <a:lnTo>
                    <a:pt x="27906" y="7246"/>
                  </a:lnTo>
                  <a:lnTo>
                    <a:pt x="27906" y="7449"/>
                  </a:lnTo>
                  <a:lnTo>
                    <a:pt x="4" y="7449"/>
                  </a:lnTo>
                  <a:lnTo>
                    <a:pt x="4" y="7711"/>
                  </a:lnTo>
                  <a:lnTo>
                    <a:pt x="27906" y="7711"/>
                  </a:lnTo>
                  <a:lnTo>
                    <a:pt x="27906" y="7914"/>
                  </a:lnTo>
                  <a:lnTo>
                    <a:pt x="4" y="7914"/>
                  </a:lnTo>
                  <a:lnTo>
                    <a:pt x="4" y="8173"/>
                  </a:lnTo>
                  <a:lnTo>
                    <a:pt x="27906" y="8173"/>
                  </a:lnTo>
                  <a:lnTo>
                    <a:pt x="27906" y="8380"/>
                  </a:lnTo>
                  <a:lnTo>
                    <a:pt x="4" y="8380"/>
                  </a:lnTo>
                  <a:lnTo>
                    <a:pt x="4" y="8642"/>
                  </a:lnTo>
                  <a:lnTo>
                    <a:pt x="27906" y="8638"/>
                  </a:lnTo>
                  <a:lnTo>
                    <a:pt x="27906" y="8845"/>
                  </a:lnTo>
                  <a:lnTo>
                    <a:pt x="4" y="8845"/>
                  </a:lnTo>
                  <a:lnTo>
                    <a:pt x="4" y="9108"/>
                  </a:lnTo>
                  <a:lnTo>
                    <a:pt x="27906" y="9104"/>
                  </a:lnTo>
                  <a:lnTo>
                    <a:pt x="27906" y="9315"/>
                  </a:lnTo>
                  <a:lnTo>
                    <a:pt x="4" y="9311"/>
                  </a:lnTo>
                  <a:lnTo>
                    <a:pt x="4" y="9569"/>
                  </a:lnTo>
                  <a:lnTo>
                    <a:pt x="27906" y="9569"/>
                  </a:lnTo>
                  <a:lnTo>
                    <a:pt x="27906" y="9776"/>
                  </a:lnTo>
                  <a:lnTo>
                    <a:pt x="4" y="9776"/>
                  </a:lnTo>
                  <a:lnTo>
                    <a:pt x="4" y="10035"/>
                  </a:lnTo>
                  <a:lnTo>
                    <a:pt x="27906" y="10035"/>
                  </a:lnTo>
                  <a:lnTo>
                    <a:pt x="27906" y="10242"/>
                  </a:lnTo>
                  <a:lnTo>
                    <a:pt x="4" y="10242"/>
                  </a:lnTo>
                  <a:lnTo>
                    <a:pt x="4" y="10504"/>
                  </a:lnTo>
                  <a:lnTo>
                    <a:pt x="27906" y="10500"/>
                  </a:lnTo>
                  <a:lnTo>
                    <a:pt x="27906" y="10707"/>
                  </a:lnTo>
                  <a:lnTo>
                    <a:pt x="4" y="10707"/>
                  </a:lnTo>
                  <a:lnTo>
                    <a:pt x="4" y="10970"/>
                  </a:lnTo>
                  <a:lnTo>
                    <a:pt x="27906" y="10970"/>
                  </a:lnTo>
                  <a:lnTo>
                    <a:pt x="27906" y="11173"/>
                  </a:lnTo>
                  <a:lnTo>
                    <a:pt x="4" y="11173"/>
                  </a:lnTo>
                  <a:lnTo>
                    <a:pt x="4" y="11431"/>
                  </a:lnTo>
                  <a:lnTo>
                    <a:pt x="27906" y="11431"/>
                  </a:lnTo>
                  <a:lnTo>
                    <a:pt x="27906" y="11638"/>
                  </a:lnTo>
                  <a:lnTo>
                    <a:pt x="4" y="11638"/>
                  </a:lnTo>
                  <a:lnTo>
                    <a:pt x="4" y="11901"/>
                  </a:lnTo>
                  <a:lnTo>
                    <a:pt x="27906" y="11897"/>
                  </a:lnTo>
                  <a:lnTo>
                    <a:pt x="27906" y="12104"/>
                  </a:lnTo>
                  <a:lnTo>
                    <a:pt x="4" y="12104"/>
                  </a:lnTo>
                  <a:lnTo>
                    <a:pt x="4" y="12362"/>
                  </a:lnTo>
                  <a:lnTo>
                    <a:pt x="27906" y="12362"/>
                  </a:lnTo>
                  <a:lnTo>
                    <a:pt x="27906" y="12573"/>
                  </a:lnTo>
                  <a:lnTo>
                    <a:pt x="0" y="12573"/>
                  </a:lnTo>
                  <a:lnTo>
                    <a:pt x="4" y="12832"/>
                  </a:lnTo>
                  <a:lnTo>
                    <a:pt x="27906" y="12828"/>
                  </a:lnTo>
                  <a:lnTo>
                    <a:pt x="27906" y="13035"/>
                  </a:lnTo>
                  <a:lnTo>
                    <a:pt x="4" y="13035"/>
                  </a:lnTo>
                  <a:lnTo>
                    <a:pt x="4" y="13293"/>
                  </a:lnTo>
                  <a:lnTo>
                    <a:pt x="27906" y="13293"/>
                  </a:lnTo>
                  <a:lnTo>
                    <a:pt x="27906" y="13501"/>
                  </a:lnTo>
                  <a:lnTo>
                    <a:pt x="4" y="13501"/>
                  </a:lnTo>
                  <a:lnTo>
                    <a:pt x="4" y="13760"/>
                  </a:lnTo>
                  <a:lnTo>
                    <a:pt x="27906" y="13760"/>
                  </a:lnTo>
                  <a:lnTo>
                    <a:pt x="27906" y="13967"/>
                  </a:lnTo>
                  <a:lnTo>
                    <a:pt x="4" y="13967"/>
                  </a:lnTo>
                  <a:lnTo>
                    <a:pt x="4" y="14229"/>
                  </a:lnTo>
                  <a:lnTo>
                    <a:pt x="27906" y="14225"/>
                  </a:lnTo>
                  <a:lnTo>
                    <a:pt x="27906" y="14432"/>
                  </a:lnTo>
                  <a:lnTo>
                    <a:pt x="4" y="14432"/>
                  </a:lnTo>
                  <a:lnTo>
                    <a:pt x="4" y="14691"/>
                  </a:lnTo>
                  <a:lnTo>
                    <a:pt x="27906" y="14695"/>
                  </a:lnTo>
                  <a:lnTo>
                    <a:pt x="27906" y="14902"/>
                  </a:lnTo>
                  <a:lnTo>
                    <a:pt x="4" y="14898"/>
                  </a:lnTo>
                  <a:lnTo>
                    <a:pt x="4" y="15160"/>
                  </a:lnTo>
                  <a:lnTo>
                    <a:pt x="27906" y="15156"/>
                  </a:lnTo>
                  <a:lnTo>
                    <a:pt x="27906" y="15367"/>
                  </a:lnTo>
                  <a:lnTo>
                    <a:pt x="4" y="15367"/>
                  </a:lnTo>
                  <a:lnTo>
                    <a:pt x="4" y="15622"/>
                  </a:lnTo>
                  <a:lnTo>
                    <a:pt x="27906" y="15626"/>
                  </a:lnTo>
                  <a:lnTo>
                    <a:pt x="27906" y="15833"/>
                  </a:lnTo>
                  <a:lnTo>
                    <a:pt x="4" y="15829"/>
                  </a:lnTo>
                  <a:lnTo>
                    <a:pt x="4" y="16091"/>
                  </a:lnTo>
                  <a:lnTo>
                    <a:pt x="27906" y="16091"/>
                  </a:lnTo>
                  <a:lnTo>
                    <a:pt x="27906" y="16298"/>
                  </a:lnTo>
                  <a:lnTo>
                    <a:pt x="4" y="16298"/>
                  </a:lnTo>
                  <a:lnTo>
                    <a:pt x="4" y="16557"/>
                  </a:lnTo>
                  <a:lnTo>
                    <a:pt x="27906" y="16557"/>
                  </a:lnTo>
                  <a:lnTo>
                    <a:pt x="27906" y="16764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267120"/>
            <a:ext cx="9052200" cy="1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1568160"/>
            <a:ext cx="9052200" cy="38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819000"/>
            <a:ext cx="9124920" cy="25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  <a:ea typeface="Arial"/>
              </a:rPr>
              <a:t>Geomorphic Controls on Sediment Transport</a:t>
            </a:r>
            <a:br>
              <a:rPr sz="2600"/>
            </a:br>
            <a:r>
              <a:rPr b="1" lang="en-US" sz="2600" spc="-1" strike="noStrike">
                <a:solidFill>
                  <a:srgbClr val="fafd00"/>
                </a:solidFill>
                <a:latin typeface="Arial"/>
                <a:ea typeface="Arial"/>
              </a:rPr>
              <a:t>Efficiency in the Central Appalachians:  A Comparative Analysis of Three Watersheds Underlain by the</a:t>
            </a:r>
            <a:br>
              <a:rPr sz="2600"/>
            </a:br>
            <a:r>
              <a:rPr b="1" lang="en-US" sz="2600" spc="-1" strike="noStrike">
                <a:solidFill>
                  <a:srgbClr val="fafd00"/>
                </a:solidFill>
                <a:latin typeface="Arial"/>
                <a:ea typeface="Arial"/>
              </a:rPr>
              <a:t>Acadian Clastic W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55920" y="4245120"/>
            <a:ext cx="66927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eve Taylor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partment of Geology and Geography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est Virgini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organtown, WV  265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747880" y="2976480"/>
            <a:ext cx="45561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fafd00"/>
                </a:solidFill>
                <a:latin typeface="Arial"/>
                <a:ea typeface="Arial"/>
              </a:rPr>
              <a:t>Appalachian Fa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969920" y="849240"/>
            <a:ext cx="6099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Modes of Fan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9080" y="2584440"/>
            <a:ext cx="8358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alley-Erosion (at Tributary Jun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diment Erosion (Beveled Sapro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iedmont-Karst Solution (Shenandoah Vall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8272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56656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7680" y="341280"/>
            <a:ext cx="7763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Optimum Conditions for Fan Pre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Valley-Erosion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42236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246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30280" y="1565280"/>
            <a:ext cx="721836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1)  High Drainage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2)  High Tributary-Junction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3)  Steep Low-Order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4)  High Valley-Width Expans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5)  Wide High-Order Va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6)  Steep Hillslopes Prone to Debris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66960" y="406440"/>
            <a:ext cx="812628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Surficial Map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Unglaciated Humid-Mountainous Landsca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746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4720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812960"/>
            <a:ext cx="945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ype I Map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Polygonal Map Features; Landforms and Surficial Depos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our-Fold Criteria: Age, Origin, Landform,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ype II Map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Discrete Surface Features; Without Surficial Depos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e.g., cave opening, slide sc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ype III Map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Data Reference Points; e.g., test pit, soil b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0960" y="596880"/>
            <a:ext cx="6218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Stream Power Relationship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Watershed Respons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Bull, 19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4120" y="2779560"/>
            <a:ext cx="86360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tream Power &lt; Resisting Power = Aggra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tream Power &gt; Resisting Power = Degra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479"/>
              </a:spcBef>
              <a:buClr>
                <a:srgbClr val="ff33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tream Power = Resisting Power =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06856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584028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71600" y="528480"/>
            <a:ext cx="7337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revious Approaches to Surficial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n the Central Appalach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0720" y="2289240"/>
            <a:ext cx="919332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1) Process-Based Units (e.g., residuum, colluviu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2) Materials-Based Units (e.g., diamicton, debr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3) Landform-Based Units (e.g., alluvial fan, floodpla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4) Age-Based Units (e.g., young colluvium, 1985 depos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5) Clast-Rind Weathering (e.g., 0-10 mm rind thick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6) Terrace-Surface Heights (e.g., low terra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7) Slope-Gradient (e.g. 14-26</a:t>
            </a:r>
            <a:r>
              <a:rPr b="1" lang="en-US" sz="2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(8) Vegetation (e.g., northern hardwood - hollo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85904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5952960"/>
            <a:ext cx="975384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449440" y="258840"/>
            <a:ext cx="51595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Stream Power Equation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200" y="4686120"/>
            <a:ext cx="9277200" cy="1766880"/>
            <a:chOff x="403200" y="4686120"/>
            <a:chExt cx="9277200" cy="1766880"/>
          </a:xfrm>
        </p:grpSpPr>
        <p:sp>
          <p:nvSpPr>
            <p:cNvPr id="67" name=""/>
            <p:cNvSpPr txBox="1"/>
            <p:nvPr/>
          </p:nvSpPr>
          <p:spPr>
            <a:xfrm>
              <a:off x="403200" y="4686120"/>
              <a:ext cx="4894200" cy="17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W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 = stream power (Nm/s = watt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g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 = specific wt. of fluid (~9800 N/m</a:t>
              </a:r>
              <a:r>
                <a:rPr b="1" lang="en-US" sz="22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Q = discharge (m</a:t>
              </a:r>
              <a:r>
                <a:rPr b="1" lang="en-US" sz="22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/sec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S = energy slope (m/m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w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 = unit stream power (watts/m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6087960" y="4686120"/>
              <a:ext cx="3592440" cy="17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w = flow width (m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D = mean flow depth (m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V = mean velocity (m/sec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t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 = shear stress (N/m</a:t>
              </a:r>
              <a:r>
                <a:rPr b="1" lang="en-US" sz="22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 = drainage area (km</a:t>
              </a:r>
              <a:r>
                <a:rPr b="1" lang="en-US" sz="22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38080" y="876240"/>
            <a:ext cx="8381880" cy="3484440"/>
            <a:chOff x="838080" y="876240"/>
            <a:chExt cx="8381880" cy="3484440"/>
          </a:xfrm>
        </p:grpSpPr>
        <p:sp>
          <p:nvSpPr>
            <p:cNvPr id="70" name=""/>
            <p:cNvSpPr txBox="1"/>
            <p:nvPr/>
          </p:nvSpPr>
          <p:spPr>
            <a:xfrm>
              <a:off x="1658880" y="1252440"/>
              <a:ext cx="6647040" cy="273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(Equation 1)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	</a:t>
              </a:r>
              <a:r>
                <a:rPr b="1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W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= </a:t>
              </a:r>
              <a:r>
                <a:rPr b="1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g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Q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(Equation 2)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	</a:t>
              </a:r>
              <a:r>
                <a:rPr b="1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w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= (</a:t>
              </a:r>
              <a:r>
                <a:rPr b="1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g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QS)/w = </a:t>
              </a:r>
              <a:r>
                <a:rPr b="1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g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DSV = </a:t>
              </a:r>
              <a:r>
                <a:rPr b="1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t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(Equation 3)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	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Q =aA</a:t>
              </a:r>
              <a:r>
                <a:rPr b="1" lang="en-US" sz="2600" spc="-1" strike="noStrike" baseline="23000">
                  <a:solidFill>
                    <a:srgbClr val="ffff00"/>
                  </a:solidFill>
                  <a:latin typeface="Arial"/>
                  <a:ea typeface="Arial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(Equation 4)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	</a:t>
              </a:r>
              <a:r>
                <a:rPr b="1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w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= (</a:t>
              </a:r>
              <a:r>
                <a:rPr b="1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g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(aA</a:t>
              </a:r>
              <a:r>
                <a:rPr b="1" lang="en-US" sz="2600" spc="-1" strike="noStrike" baseline="23000">
                  <a:solidFill>
                    <a:srgbClr val="ffff00"/>
                  </a:solidFill>
                  <a:latin typeface="Arial"/>
                  <a:ea typeface="Arial"/>
                </a:rPr>
                <a:t>b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)S)/w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8080" y="876240"/>
              <a:ext cx="8381880" cy="348444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horized Gateway Customer</dc:creator>
  <dc:description/>
  <dc:language>en-US</dc:language>
  <cp:lastModifiedBy>Authorized Gateway Customer</cp:lastModifiedBy>
  <cp:revision>0</cp:revision>
  <dc:subject/>
  <dc:title>PhD proposal</dc:title>
</cp:coreProperties>
</file>