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58400" cy="670242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9052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598560"/>
            <a:ext cx="9052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5985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1520" y="35985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3640" y="15681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4360" y="15681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5985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3640" y="35985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4360" y="35985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568160"/>
            <a:ext cx="9052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9052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67120"/>
            <a:ext cx="9052200" cy="51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5985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1520" y="35985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598560"/>
            <a:ext cx="9052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58400" cy="67024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c1ce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10046160" cy="6689880"/>
            <a:chOff x="0" y="0"/>
            <a:chExt cx="10046160" cy="668988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10045800" cy="668988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c1ce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2680"/>
              <a:ext cx="10046160" cy="6463080"/>
            </a:xfrm>
            <a:custGeom>
              <a:avLst/>
              <a:gdLst/>
              <a:ahLst/>
              <a:rect l="0" t="0" r="r" b="b"/>
              <a:pathLst>
                <a:path w="27906" h="17953">
                  <a:moveTo>
                    <a:pt x="27906" y="16764"/>
                  </a:moveTo>
                  <a:lnTo>
                    <a:pt x="4" y="16760"/>
                  </a:lnTo>
                  <a:lnTo>
                    <a:pt x="4" y="17018"/>
                  </a:lnTo>
                  <a:lnTo>
                    <a:pt x="27906" y="17018"/>
                  </a:lnTo>
                  <a:lnTo>
                    <a:pt x="27906" y="17225"/>
                  </a:lnTo>
                  <a:lnTo>
                    <a:pt x="4" y="17229"/>
                  </a:lnTo>
                  <a:lnTo>
                    <a:pt x="4" y="17484"/>
                  </a:lnTo>
                  <a:lnTo>
                    <a:pt x="27906" y="17484"/>
                  </a:lnTo>
                  <a:lnTo>
                    <a:pt x="27906" y="17695"/>
                  </a:lnTo>
                  <a:lnTo>
                    <a:pt x="4" y="17691"/>
                  </a:lnTo>
                  <a:lnTo>
                    <a:pt x="4" y="17953"/>
                  </a:lnTo>
                  <a:lnTo>
                    <a:pt x="27906" y="17953"/>
                  </a:lnTo>
                  <a:lnTo>
                    <a:pt x="27906" y="0"/>
                  </a:lnTo>
                  <a:lnTo>
                    <a:pt x="4" y="0"/>
                  </a:lnTo>
                  <a:lnTo>
                    <a:pt x="4" y="262"/>
                  </a:lnTo>
                  <a:lnTo>
                    <a:pt x="27906" y="258"/>
                  </a:lnTo>
                  <a:lnTo>
                    <a:pt x="27906" y="465"/>
                  </a:lnTo>
                  <a:lnTo>
                    <a:pt x="4" y="465"/>
                  </a:lnTo>
                  <a:lnTo>
                    <a:pt x="4" y="724"/>
                  </a:lnTo>
                  <a:lnTo>
                    <a:pt x="27906" y="728"/>
                  </a:lnTo>
                  <a:lnTo>
                    <a:pt x="27906" y="931"/>
                  </a:lnTo>
                  <a:lnTo>
                    <a:pt x="4" y="931"/>
                  </a:lnTo>
                  <a:lnTo>
                    <a:pt x="4" y="1189"/>
                  </a:lnTo>
                  <a:lnTo>
                    <a:pt x="27906" y="1193"/>
                  </a:lnTo>
                  <a:lnTo>
                    <a:pt x="27906" y="1396"/>
                  </a:lnTo>
                  <a:lnTo>
                    <a:pt x="4" y="1396"/>
                  </a:lnTo>
                  <a:lnTo>
                    <a:pt x="4" y="1655"/>
                  </a:lnTo>
                  <a:lnTo>
                    <a:pt x="27906" y="1655"/>
                  </a:lnTo>
                  <a:lnTo>
                    <a:pt x="27906" y="1862"/>
                  </a:lnTo>
                  <a:lnTo>
                    <a:pt x="4" y="1862"/>
                  </a:lnTo>
                  <a:lnTo>
                    <a:pt x="4" y="2120"/>
                  </a:lnTo>
                  <a:lnTo>
                    <a:pt x="27906" y="2124"/>
                  </a:lnTo>
                  <a:lnTo>
                    <a:pt x="27906" y="2327"/>
                  </a:lnTo>
                  <a:lnTo>
                    <a:pt x="4" y="2327"/>
                  </a:lnTo>
                  <a:lnTo>
                    <a:pt x="4" y="2586"/>
                  </a:lnTo>
                  <a:lnTo>
                    <a:pt x="27906" y="2586"/>
                  </a:lnTo>
                  <a:lnTo>
                    <a:pt x="27906" y="2793"/>
                  </a:lnTo>
                  <a:lnTo>
                    <a:pt x="4" y="2793"/>
                  </a:lnTo>
                  <a:lnTo>
                    <a:pt x="4" y="3051"/>
                  </a:lnTo>
                  <a:lnTo>
                    <a:pt x="27906" y="3055"/>
                  </a:lnTo>
                  <a:lnTo>
                    <a:pt x="27906" y="3258"/>
                  </a:lnTo>
                  <a:lnTo>
                    <a:pt x="4" y="3258"/>
                  </a:lnTo>
                  <a:lnTo>
                    <a:pt x="4" y="3517"/>
                  </a:lnTo>
                  <a:lnTo>
                    <a:pt x="27906" y="3521"/>
                  </a:lnTo>
                  <a:lnTo>
                    <a:pt x="27906" y="3728"/>
                  </a:lnTo>
                  <a:lnTo>
                    <a:pt x="4" y="3724"/>
                  </a:lnTo>
                  <a:lnTo>
                    <a:pt x="4" y="3986"/>
                  </a:lnTo>
                  <a:lnTo>
                    <a:pt x="27906" y="3986"/>
                  </a:lnTo>
                  <a:lnTo>
                    <a:pt x="27906" y="4193"/>
                  </a:lnTo>
                  <a:lnTo>
                    <a:pt x="4" y="4189"/>
                  </a:lnTo>
                  <a:lnTo>
                    <a:pt x="4" y="4448"/>
                  </a:lnTo>
                  <a:lnTo>
                    <a:pt x="27906" y="4452"/>
                  </a:lnTo>
                  <a:lnTo>
                    <a:pt x="27906" y="4656"/>
                  </a:lnTo>
                  <a:lnTo>
                    <a:pt x="4" y="4656"/>
                  </a:lnTo>
                  <a:lnTo>
                    <a:pt x="4" y="4914"/>
                  </a:lnTo>
                  <a:lnTo>
                    <a:pt x="27906" y="4914"/>
                  </a:lnTo>
                  <a:lnTo>
                    <a:pt x="27906" y="5121"/>
                  </a:lnTo>
                  <a:lnTo>
                    <a:pt x="4" y="5121"/>
                  </a:lnTo>
                  <a:lnTo>
                    <a:pt x="4" y="5380"/>
                  </a:lnTo>
                  <a:lnTo>
                    <a:pt x="27906" y="5380"/>
                  </a:lnTo>
                  <a:lnTo>
                    <a:pt x="27906" y="5587"/>
                  </a:lnTo>
                  <a:lnTo>
                    <a:pt x="4" y="5591"/>
                  </a:lnTo>
                  <a:lnTo>
                    <a:pt x="4" y="5849"/>
                  </a:lnTo>
                  <a:lnTo>
                    <a:pt x="27906" y="5845"/>
                  </a:lnTo>
                  <a:lnTo>
                    <a:pt x="27906" y="6052"/>
                  </a:lnTo>
                  <a:lnTo>
                    <a:pt x="4" y="6052"/>
                  </a:lnTo>
                  <a:lnTo>
                    <a:pt x="4" y="6315"/>
                  </a:lnTo>
                  <a:lnTo>
                    <a:pt x="27906" y="6311"/>
                  </a:lnTo>
                  <a:lnTo>
                    <a:pt x="27906" y="6518"/>
                  </a:lnTo>
                  <a:lnTo>
                    <a:pt x="4" y="6518"/>
                  </a:lnTo>
                  <a:lnTo>
                    <a:pt x="4" y="6776"/>
                  </a:lnTo>
                  <a:lnTo>
                    <a:pt x="27906" y="6776"/>
                  </a:lnTo>
                  <a:lnTo>
                    <a:pt x="27906" y="6983"/>
                  </a:lnTo>
                  <a:lnTo>
                    <a:pt x="4" y="6983"/>
                  </a:lnTo>
                  <a:lnTo>
                    <a:pt x="4" y="7242"/>
                  </a:lnTo>
                  <a:lnTo>
                    <a:pt x="27906" y="7246"/>
                  </a:lnTo>
                  <a:lnTo>
                    <a:pt x="27906" y="7449"/>
                  </a:lnTo>
                  <a:lnTo>
                    <a:pt x="4" y="7449"/>
                  </a:lnTo>
                  <a:lnTo>
                    <a:pt x="4" y="7711"/>
                  </a:lnTo>
                  <a:lnTo>
                    <a:pt x="27906" y="7711"/>
                  </a:lnTo>
                  <a:lnTo>
                    <a:pt x="27906" y="7914"/>
                  </a:lnTo>
                  <a:lnTo>
                    <a:pt x="4" y="7914"/>
                  </a:lnTo>
                  <a:lnTo>
                    <a:pt x="4" y="8173"/>
                  </a:lnTo>
                  <a:lnTo>
                    <a:pt x="27906" y="8173"/>
                  </a:lnTo>
                  <a:lnTo>
                    <a:pt x="27906" y="8380"/>
                  </a:lnTo>
                  <a:lnTo>
                    <a:pt x="4" y="8380"/>
                  </a:lnTo>
                  <a:lnTo>
                    <a:pt x="4" y="8642"/>
                  </a:lnTo>
                  <a:lnTo>
                    <a:pt x="27906" y="8638"/>
                  </a:lnTo>
                  <a:lnTo>
                    <a:pt x="27906" y="8845"/>
                  </a:lnTo>
                  <a:lnTo>
                    <a:pt x="4" y="8845"/>
                  </a:lnTo>
                  <a:lnTo>
                    <a:pt x="4" y="9108"/>
                  </a:lnTo>
                  <a:lnTo>
                    <a:pt x="27906" y="9104"/>
                  </a:lnTo>
                  <a:lnTo>
                    <a:pt x="27906" y="9315"/>
                  </a:lnTo>
                  <a:lnTo>
                    <a:pt x="4" y="9311"/>
                  </a:lnTo>
                  <a:lnTo>
                    <a:pt x="4" y="9569"/>
                  </a:lnTo>
                  <a:lnTo>
                    <a:pt x="27906" y="9569"/>
                  </a:lnTo>
                  <a:lnTo>
                    <a:pt x="27906" y="9776"/>
                  </a:lnTo>
                  <a:lnTo>
                    <a:pt x="4" y="9776"/>
                  </a:lnTo>
                  <a:lnTo>
                    <a:pt x="4" y="10035"/>
                  </a:lnTo>
                  <a:lnTo>
                    <a:pt x="27906" y="10035"/>
                  </a:lnTo>
                  <a:lnTo>
                    <a:pt x="27906" y="10242"/>
                  </a:lnTo>
                  <a:lnTo>
                    <a:pt x="4" y="10242"/>
                  </a:lnTo>
                  <a:lnTo>
                    <a:pt x="4" y="10504"/>
                  </a:lnTo>
                  <a:lnTo>
                    <a:pt x="27906" y="10500"/>
                  </a:lnTo>
                  <a:lnTo>
                    <a:pt x="27906" y="10707"/>
                  </a:lnTo>
                  <a:lnTo>
                    <a:pt x="4" y="10707"/>
                  </a:lnTo>
                  <a:lnTo>
                    <a:pt x="4" y="10970"/>
                  </a:lnTo>
                  <a:lnTo>
                    <a:pt x="27906" y="10970"/>
                  </a:lnTo>
                  <a:lnTo>
                    <a:pt x="27906" y="11173"/>
                  </a:lnTo>
                  <a:lnTo>
                    <a:pt x="4" y="11173"/>
                  </a:lnTo>
                  <a:lnTo>
                    <a:pt x="4" y="11431"/>
                  </a:lnTo>
                  <a:lnTo>
                    <a:pt x="27906" y="11431"/>
                  </a:lnTo>
                  <a:lnTo>
                    <a:pt x="27906" y="11638"/>
                  </a:lnTo>
                  <a:lnTo>
                    <a:pt x="4" y="11638"/>
                  </a:lnTo>
                  <a:lnTo>
                    <a:pt x="4" y="11901"/>
                  </a:lnTo>
                  <a:lnTo>
                    <a:pt x="27906" y="11897"/>
                  </a:lnTo>
                  <a:lnTo>
                    <a:pt x="27906" y="12104"/>
                  </a:lnTo>
                  <a:lnTo>
                    <a:pt x="4" y="12104"/>
                  </a:lnTo>
                  <a:lnTo>
                    <a:pt x="4" y="12362"/>
                  </a:lnTo>
                  <a:lnTo>
                    <a:pt x="27906" y="12362"/>
                  </a:lnTo>
                  <a:lnTo>
                    <a:pt x="27906" y="12573"/>
                  </a:lnTo>
                  <a:lnTo>
                    <a:pt x="0" y="12573"/>
                  </a:lnTo>
                  <a:lnTo>
                    <a:pt x="4" y="12832"/>
                  </a:lnTo>
                  <a:lnTo>
                    <a:pt x="27906" y="12828"/>
                  </a:lnTo>
                  <a:lnTo>
                    <a:pt x="27906" y="13035"/>
                  </a:lnTo>
                  <a:lnTo>
                    <a:pt x="4" y="13035"/>
                  </a:lnTo>
                  <a:lnTo>
                    <a:pt x="4" y="13293"/>
                  </a:lnTo>
                  <a:lnTo>
                    <a:pt x="27906" y="13293"/>
                  </a:lnTo>
                  <a:lnTo>
                    <a:pt x="27906" y="13501"/>
                  </a:lnTo>
                  <a:lnTo>
                    <a:pt x="4" y="13501"/>
                  </a:lnTo>
                  <a:lnTo>
                    <a:pt x="4" y="13760"/>
                  </a:lnTo>
                  <a:lnTo>
                    <a:pt x="27906" y="13760"/>
                  </a:lnTo>
                  <a:lnTo>
                    <a:pt x="27906" y="13967"/>
                  </a:lnTo>
                  <a:lnTo>
                    <a:pt x="4" y="13967"/>
                  </a:lnTo>
                  <a:lnTo>
                    <a:pt x="4" y="14229"/>
                  </a:lnTo>
                  <a:lnTo>
                    <a:pt x="27906" y="14225"/>
                  </a:lnTo>
                  <a:lnTo>
                    <a:pt x="27906" y="14432"/>
                  </a:lnTo>
                  <a:lnTo>
                    <a:pt x="4" y="14432"/>
                  </a:lnTo>
                  <a:lnTo>
                    <a:pt x="4" y="14691"/>
                  </a:lnTo>
                  <a:lnTo>
                    <a:pt x="27906" y="14695"/>
                  </a:lnTo>
                  <a:lnTo>
                    <a:pt x="27906" y="14902"/>
                  </a:lnTo>
                  <a:lnTo>
                    <a:pt x="4" y="14898"/>
                  </a:lnTo>
                  <a:lnTo>
                    <a:pt x="4" y="15160"/>
                  </a:lnTo>
                  <a:lnTo>
                    <a:pt x="27906" y="15156"/>
                  </a:lnTo>
                  <a:lnTo>
                    <a:pt x="27906" y="15367"/>
                  </a:lnTo>
                  <a:lnTo>
                    <a:pt x="4" y="15367"/>
                  </a:lnTo>
                  <a:lnTo>
                    <a:pt x="4" y="15622"/>
                  </a:lnTo>
                  <a:lnTo>
                    <a:pt x="27906" y="15626"/>
                  </a:lnTo>
                  <a:lnTo>
                    <a:pt x="27906" y="15833"/>
                  </a:lnTo>
                  <a:lnTo>
                    <a:pt x="4" y="15829"/>
                  </a:lnTo>
                  <a:lnTo>
                    <a:pt x="4" y="16091"/>
                  </a:lnTo>
                  <a:lnTo>
                    <a:pt x="27906" y="16091"/>
                  </a:lnTo>
                  <a:lnTo>
                    <a:pt x="27906" y="16298"/>
                  </a:lnTo>
                  <a:lnTo>
                    <a:pt x="4" y="16298"/>
                  </a:lnTo>
                  <a:lnTo>
                    <a:pt x="4" y="16557"/>
                  </a:lnTo>
                  <a:lnTo>
                    <a:pt x="27906" y="16557"/>
                  </a:lnTo>
                  <a:lnTo>
                    <a:pt x="27906" y="16764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2920" y="1568160"/>
            <a:ext cx="9052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819000"/>
            <a:ext cx="9124920" cy="25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  <a:ea typeface="Arial"/>
              </a:rPr>
              <a:t>Comparative Geomorphic Analysis of Three Central Appalachian Watersheds:  Implications for Controls on Sediment Transport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55920" y="4245120"/>
            <a:ext cx="669276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4800" indent="-334800"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teve Taylor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epartment of Geology and Geography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est Virginia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organtown, WV  26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54200" y="2792520"/>
            <a:ext cx="8550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300" spc="-1" strike="noStrike">
                <a:solidFill>
                  <a:srgbClr val="fafd00"/>
                </a:solidFill>
                <a:latin typeface="Arial"/>
                <a:ea typeface="Arial"/>
              </a:rPr>
              <a:t>Morphometric Analysi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28880" y="1538280"/>
            <a:ext cx="830592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General Setting / Overvie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Surficial Ge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Geomorphic Analys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Sediment Storage / Transport Efficien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Implications / Conclu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97080" y="90360"/>
            <a:ext cx="56707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ppalachian Debris F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(Devonian Sandstone Landscap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17600" y="1787400"/>
            <a:ext cx="1843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16160" y="1098720"/>
            <a:ext cx="788364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Debris-Flow Domin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Poorly Sorted Gravel Diamic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Complex Internal Stratigrap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Crudely Stratified / Weak Fab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Small-Sc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&lt; 0.1 km</a:t>
            </a:r>
            <a:r>
              <a:rPr b="1" lang="en-US" sz="2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Surface Area (Range: 10</a:t>
            </a:r>
            <a:r>
              <a:rPr b="1" lang="en-US" sz="2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- 10</a:t>
            </a:r>
            <a:r>
              <a:rPr b="1" lang="en-US" sz="2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 m</a:t>
            </a:r>
            <a:r>
              <a:rPr b="1" lang="en-US" sz="2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Occur at Tributary J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&gt;75% at 1st - 2nd Order Tribut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Simple vs. Compound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Simple = Single Fan-Unit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Compound = Inset Fan-Terrace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Irregular Wedge Sha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Limited Erosional Accommodation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54192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0206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4200" y="2792520"/>
            <a:ext cx="8550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300" spc="-1" strike="noStrike">
                <a:solidFill>
                  <a:srgbClr val="fafd00"/>
                </a:solidFill>
                <a:latin typeface="Arial"/>
                <a:ea typeface="Arial"/>
              </a:rPr>
              <a:t>Geomorphic Analysi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54200" y="2792520"/>
            <a:ext cx="8550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300" spc="-1" strike="noStrike">
                <a:solidFill>
                  <a:srgbClr val="fafd00"/>
                </a:solidFill>
                <a:latin typeface="Arial"/>
                <a:ea typeface="Arial"/>
              </a:rPr>
              <a:t>Surficial Geolog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54200" y="2792520"/>
            <a:ext cx="8550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300" spc="-1" strike="noStrike">
                <a:solidFill>
                  <a:srgbClr val="fafd00"/>
                </a:solidFill>
                <a:latin typeface="Arial"/>
                <a:ea typeface="Arial"/>
              </a:rPr>
              <a:t>Channel Gravel Analysi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54200" y="2792520"/>
            <a:ext cx="8550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300" spc="-1" strike="noStrike">
                <a:solidFill>
                  <a:srgbClr val="fafd00"/>
                </a:solidFill>
                <a:latin typeface="Arial"/>
                <a:ea typeface="Arial"/>
              </a:rPr>
              <a:t>Lithofacies Analysi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54200" y="2792520"/>
            <a:ext cx="8550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300" spc="-1" strike="noStrike">
                <a:solidFill>
                  <a:srgbClr val="fafd00"/>
                </a:solidFill>
                <a:latin typeface="Arial"/>
                <a:ea typeface="Arial"/>
              </a:rPr>
              <a:t>Valley-Bottom Sediment Storag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54200" y="2792520"/>
            <a:ext cx="8550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300" spc="-1" strike="noStrike">
                <a:solidFill>
                  <a:srgbClr val="fafd00"/>
                </a:solidFill>
                <a:latin typeface="Arial"/>
                <a:ea typeface="Arial"/>
              </a:rPr>
              <a:t>Surficial Mapping Methodolog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uthorized Gateway Customer</dc:creator>
  <dc:description/>
  <dc:language>en-US</dc:language>
  <cp:lastModifiedBy>Authorized Gateway Customer</cp:lastModifiedBy>
  <cp:revision>0</cp:revision>
  <dc:subject/>
  <dc:title>PhD proposal</dc:title>
</cp:coreProperties>
</file>