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58400" cy="6702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364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36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364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36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67120"/>
            <a:ext cx="9052200" cy="51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67024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c1ce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046160" cy="6689880"/>
            <a:chOff x="0" y="0"/>
            <a:chExt cx="10046160" cy="66898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045800" cy="668988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c1ce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2680"/>
              <a:ext cx="10046160" cy="6463080"/>
            </a:xfrm>
            <a:custGeom>
              <a:avLst/>
              <a:gdLst/>
              <a:ahLst/>
              <a:rect l="0" t="0" r="r" b="b"/>
              <a:pathLst>
                <a:path w="27906" h="17953">
                  <a:moveTo>
                    <a:pt x="27906" y="16764"/>
                  </a:moveTo>
                  <a:lnTo>
                    <a:pt x="4" y="16760"/>
                  </a:lnTo>
                  <a:lnTo>
                    <a:pt x="4" y="17018"/>
                  </a:lnTo>
                  <a:lnTo>
                    <a:pt x="27906" y="17018"/>
                  </a:lnTo>
                  <a:lnTo>
                    <a:pt x="27906" y="17225"/>
                  </a:lnTo>
                  <a:lnTo>
                    <a:pt x="4" y="17229"/>
                  </a:lnTo>
                  <a:lnTo>
                    <a:pt x="4" y="17484"/>
                  </a:lnTo>
                  <a:lnTo>
                    <a:pt x="27906" y="17484"/>
                  </a:lnTo>
                  <a:lnTo>
                    <a:pt x="27906" y="17695"/>
                  </a:lnTo>
                  <a:lnTo>
                    <a:pt x="4" y="17691"/>
                  </a:lnTo>
                  <a:lnTo>
                    <a:pt x="4" y="17953"/>
                  </a:lnTo>
                  <a:lnTo>
                    <a:pt x="27906" y="17953"/>
                  </a:lnTo>
                  <a:lnTo>
                    <a:pt x="27906" y="0"/>
                  </a:lnTo>
                  <a:lnTo>
                    <a:pt x="4" y="0"/>
                  </a:lnTo>
                  <a:lnTo>
                    <a:pt x="4" y="262"/>
                  </a:lnTo>
                  <a:lnTo>
                    <a:pt x="27906" y="258"/>
                  </a:lnTo>
                  <a:lnTo>
                    <a:pt x="27906" y="465"/>
                  </a:lnTo>
                  <a:lnTo>
                    <a:pt x="4" y="465"/>
                  </a:lnTo>
                  <a:lnTo>
                    <a:pt x="4" y="724"/>
                  </a:lnTo>
                  <a:lnTo>
                    <a:pt x="27906" y="728"/>
                  </a:lnTo>
                  <a:lnTo>
                    <a:pt x="27906" y="931"/>
                  </a:lnTo>
                  <a:lnTo>
                    <a:pt x="4" y="931"/>
                  </a:lnTo>
                  <a:lnTo>
                    <a:pt x="4" y="1189"/>
                  </a:lnTo>
                  <a:lnTo>
                    <a:pt x="27906" y="1193"/>
                  </a:lnTo>
                  <a:lnTo>
                    <a:pt x="27906" y="1396"/>
                  </a:lnTo>
                  <a:lnTo>
                    <a:pt x="4" y="1396"/>
                  </a:lnTo>
                  <a:lnTo>
                    <a:pt x="4" y="1655"/>
                  </a:lnTo>
                  <a:lnTo>
                    <a:pt x="27906" y="1655"/>
                  </a:lnTo>
                  <a:lnTo>
                    <a:pt x="27906" y="1862"/>
                  </a:lnTo>
                  <a:lnTo>
                    <a:pt x="4" y="1862"/>
                  </a:lnTo>
                  <a:lnTo>
                    <a:pt x="4" y="2120"/>
                  </a:lnTo>
                  <a:lnTo>
                    <a:pt x="27906" y="2124"/>
                  </a:lnTo>
                  <a:lnTo>
                    <a:pt x="27906" y="2327"/>
                  </a:lnTo>
                  <a:lnTo>
                    <a:pt x="4" y="2327"/>
                  </a:lnTo>
                  <a:lnTo>
                    <a:pt x="4" y="2586"/>
                  </a:lnTo>
                  <a:lnTo>
                    <a:pt x="27906" y="2586"/>
                  </a:lnTo>
                  <a:lnTo>
                    <a:pt x="27906" y="2793"/>
                  </a:lnTo>
                  <a:lnTo>
                    <a:pt x="4" y="2793"/>
                  </a:lnTo>
                  <a:lnTo>
                    <a:pt x="4" y="3051"/>
                  </a:lnTo>
                  <a:lnTo>
                    <a:pt x="27906" y="3055"/>
                  </a:lnTo>
                  <a:lnTo>
                    <a:pt x="27906" y="3258"/>
                  </a:lnTo>
                  <a:lnTo>
                    <a:pt x="4" y="3258"/>
                  </a:lnTo>
                  <a:lnTo>
                    <a:pt x="4" y="3517"/>
                  </a:lnTo>
                  <a:lnTo>
                    <a:pt x="27906" y="3521"/>
                  </a:lnTo>
                  <a:lnTo>
                    <a:pt x="27906" y="3728"/>
                  </a:lnTo>
                  <a:lnTo>
                    <a:pt x="4" y="3724"/>
                  </a:lnTo>
                  <a:lnTo>
                    <a:pt x="4" y="3986"/>
                  </a:lnTo>
                  <a:lnTo>
                    <a:pt x="27906" y="3986"/>
                  </a:lnTo>
                  <a:lnTo>
                    <a:pt x="27906" y="4193"/>
                  </a:lnTo>
                  <a:lnTo>
                    <a:pt x="4" y="4189"/>
                  </a:lnTo>
                  <a:lnTo>
                    <a:pt x="4" y="4448"/>
                  </a:lnTo>
                  <a:lnTo>
                    <a:pt x="27906" y="4452"/>
                  </a:lnTo>
                  <a:lnTo>
                    <a:pt x="27906" y="4656"/>
                  </a:lnTo>
                  <a:lnTo>
                    <a:pt x="4" y="4656"/>
                  </a:lnTo>
                  <a:lnTo>
                    <a:pt x="4" y="4914"/>
                  </a:lnTo>
                  <a:lnTo>
                    <a:pt x="27906" y="4914"/>
                  </a:lnTo>
                  <a:lnTo>
                    <a:pt x="27906" y="5121"/>
                  </a:lnTo>
                  <a:lnTo>
                    <a:pt x="4" y="5121"/>
                  </a:lnTo>
                  <a:lnTo>
                    <a:pt x="4" y="5380"/>
                  </a:lnTo>
                  <a:lnTo>
                    <a:pt x="27906" y="5380"/>
                  </a:lnTo>
                  <a:lnTo>
                    <a:pt x="27906" y="5587"/>
                  </a:lnTo>
                  <a:lnTo>
                    <a:pt x="4" y="5591"/>
                  </a:lnTo>
                  <a:lnTo>
                    <a:pt x="4" y="5849"/>
                  </a:lnTo>
                  <a:lnTo>
                    <a:pt x="27906" y="5845"/>
                  </a:lnTo>
                  <a:lnTo>
                    <a:pt x="27906" y="6052"/>
                  </a:lnTo>
                  <a:lnTo>
                    <a:pt x="4" y="6052"/>
                  </a:lnTo>
                  <a:lnTo>
                    <a:pt x="4" y="6315"/>
                  </a:lnTo>
                  <a:lnTo>
                    <a:pt x="27906" y="6311"/>
                  </a:lnTo>
                  <a:lnTo>
                    <a:pt x="27906" y="6518"/>
                  </a:lnTo>
                  <a:lnTo>
                    <a:pt x="4" y="6518"/>
                  </a:lnTo>
                  <a:lnTo>
                    <a:pt x="4" y="6776"/>
                  </a:lnTo>
                  <a:lnTo>
                    <a:pt x="27906" y="6776"/>
                  </a:lnTo>
                  <a:lnTo>
                    <a:pt x="27906" y="6983"/>
                  </a:lnTo>
                  <a:lnTo>
                    <a:pt x="4" y="6983"/>
                  </a:lnTo>
                  <a:lnTo>
                    <a:pt x="4" y="7242"/>
                  </a:lnTo>
                  <a:lnTo>
                    <a:pt x="27906" y="7246"/>
                  </a:lnTo>
                  <a:lnTo>
                    <a:pt x="27906" y="7449"/>
                  </a:lnTo>
                  <a:lnTo>
                    <a:pt x="4" y="7449"/>
                  </a:lnTo>
                  <a:lnTo>
                    <a:pt x="4" y="7711"/>
                  </a:lnTo>
                  <a:lnTo>
                    <a:pt x="27906" y="7711"/>
                  </a:lnTo>
                  <a:lnTo>
                    <a:pt x="27906" y="7914"/>
                  </a:lnTo>
                  <a:lnTo>
                    <a:pt x="4" y="7914"/>
                  </a:lnTo>
                  <a:lnTo>
                    <a:pt x="4" y="8173"/>
                  </a:lnTo>
                  <a:lnTo>
                    <a:pt x="27906" y="8173"/>
                  </a:lnTo>
                  <a:lnTo>
                    <a:pt x="27906" y="8380"/>
                  </a:lnTo>
                  <a:lnTo>
                    <a:pt x="4" y="8380"/>
                  </a:lnTo>
                  <a:lnTo>
                    <a:pt x="4" y="8642"/>
                  </a:lnTo>
                  <a:lnTo>
                    <a:pt x="27906" y="8638"/>
                  </a:lnTo>
                  <a:lnTo>
                    <a:pt x="27906" y="8845"/>
                  </a:lnTo>
                  <a:lnTo>
                    <a:pt x="4" y="8845"/>
                  </a:lnTo>
                  <a:lnTo>
                    <a:pt x="4" y="9108"/>
                  </a:lnTo>
                  <a:lnTo>
                    <a:pt x="27906" y="9104"/>
                  </a:lnTo>
                  <a:lnTo>
                    <a:pt x="27906" y="9315"/>
                  </a:lnTo>
                  <a:lnTo>
                    <a:pt x="4" y="9311"/>
                  </a:lnTo>
                  <a:lnTo>
                    <a:pt x="4" y="9569"/>
                  </a:lnTo>
                  <a:lnTo>
                    <a:pt x="27906" y="9569"/>
                  </a:lnTo>
                  <a:lnTo>
                    <a:pt x="27906" y="9776"/>
                  </a:lnTo>
                  <a:lnTo>
                    <a:pt x="4" y="9776"/>
                  </a:lnTo>
                  <a:lnTo>
                    <a:pt x="4" y="10035"/>
                  </a:lnTo>
                  <a:lnTo>
                    <a:pt x="27906" y="10035"/>
                  </a:lnTo>
                  <a:lnTo>
                    <a:pt x="27906" y="10242"/>
                  </a:lnTo>
                  <a:lnTo>
                    <a:pt x="4" y="10242"/>
                  </a:lnTo>
                  <a:lnTo>
                    <a:pt x="4" y="10504"/>
                  </a:lnTo>
                  <a:lnTo>
                    <a:pt x="27906" y="10500"/>
                  </a:lnTo>
                  <a:lnTo>
                    <a:pt x="27906" y="10707"/>
                  </a:lnTo>
                  <a:lnTo>
                    <a:pt x="4" y="10707"/>
                  </a:lnTo>
                  <a:lnTo>
                    <a:pt x="4" y="10970"/>
                  </a:lnTo>
                  <a:lnTo>
                    <a:pt x="27906" y="10970"/>
                  </a:lnTo>
                  <a:lnTo>
                    <a:pt x="27906" y="11173"/>
                  </a:lnTo>
                  <a:lnTo>
                    <a:pt x="4" y="11173"/>
                  </a:lnTo>
                  <a:lnTo>
                    <a:pt x="4" y="11431"/>
                  </a:lnTo>
                  <a:lnTo>
                    <a:pt x="27906" y="11431"/>
                  </a:lnTo>
                  <a:lnTo>
                    <a:pt x="27906" y="11638"/>
                  </a:lnTo>
                  <a:lnTo>
                    <a:pt x="4" y="11638"/>
                  </a:lnTo>
                  <a:lnTo>
                    <a:pt x="4" y="11901"/>
                  </a:lnTo>
                  <a:lnTo>
                    <a:pt x="27906" y="11897"/>
                  </a:lnTo>
                  <a:lnTo>
                    <a:pt x="27906" y="12104"/>
                  </a:lnTo>
                  <a:lnTo>
                    <a:pt x="4" y="12104"/>
                  </a:lnTo>
                  <a:lnTo>
                    <a:pt x="4" y="12362"/>
                  </a:lnTo>
                  <a:lnTo>
                    <a:pt x="27906" y="12362"/>
                  </a:lnTo>
                  <a:lnTo>
                    <a:pt x="27906" y="12573"/>
                  </a:lnTo>
                  <a:lnTo>
                    <a:pt x="0" y="12573"/>
                  </a:lnTo>
                  <a:lnTo>
                    <a:pt x="4" y="12832"/>
                  </a:lnTo>
                  <a:lnTo>
                    <a:pt x="27906" y="12828"/>
                  </a:lnTo>
                  <a:lnTo>
                    <a:pt x="27906" y="13035"/>
                  </a:lnTo>
                  <a:lnTo>
                    <a:pt x="4" y="13035"/>
                  </a:lnTo>
                  <a:lnTo>
                    <a:pt x="4" y="13293"/>
                  </a:lnTo>
                  <a:lnTo>
                    <a:pt x="27906" y="13293"/>
                  </a:lnTo>
                  <a:lnTo>
                    <a:pt x="27906" y="13501"/>
                  </a:lnTo>
                  <a:lnTo>
                    <a:pt x="4" y="13501"/>
                  </a:lnTo>
                  <a:lnTo>
                    <a:pt x="4" y="13760"/>
                  </a:lnTo>
                  <a:lnTo>
                    <a:pt x="27906" y="13760"/>
                  </a:lnTo>
                  <a:lnTo>
                    <a:pt x="27906" y="13967"/>
                  </a:lnTo>
                  <a:lnTo>
                    <a:pt x="4" y="13967"/>
                  </a:lnTo>
                  <a:lnTo>
                    <a:pt x="4" y="14229"/>
                  </a:lnTo>
                  <a:lnTo>
                    <a:pt x="27906" y="14225"/>
                  </a:lnTo>
                  <a:lnTo>
                    <a:pt x="27906" y="14432"/>
                  </a:lnTo>
                  <a:lnTo>
                    <a:pt x="4" y="14432"/>
                  </a:lnTo>
                  <a:lnTo>
                    <a:pt x="4" y="14691"/>
                  </a:lnTo>
                  <a:lnTo>
                    <a:pt x="27906" y="14695"/>
                  </a:lnTo>
                  <a:lnTo>
                    <a:pt x="27906" y="14902"/>
                  </a:lnTo>
                  <a:lnTo>
                    <a:pt x="4" y="14898"/>
                  </a:lnTo>
                  <a:lnTo>
                    <a:pt x="4" y="15160"/>
                  </a:lnTo>
                  <a:lnTo>
                    <a:pt x="27906" y="15156"/>
                  </a:lnTo>
                  <a:lnTo>
                    <a:pt x="27906" y="15367"/>
                  </a:lnTo>
                  <a:lnTo>
                    <a:pt x="4" y="15367"/>
                  </a:lnTo>
                  <a:lnTo>
                    <a:pt x="4" y="15622"/>
                  </a:lnTo>
                  <a:lnTo>
                    <a:pt x="27906" y="15626"/>
                  </a:lnTo>
                  <a:lnTo>
                    <a:pt x="27906" y="15833"/>
                  </a:lnTo>
                  <a:lnTo>
                    <a:pt x="4" y="15829"/>
                  </a:lnTo>
                  <a:lnTo>
                    <a:pt x="4" y="16091"/>
                  </a:lnTo>
                  <a:lnTo>
                    <a:pt x="27906" y="16091"/>
                  </a:lnTo>
                  <a:lnTo>
                    <a:pt x="27906" y="16298"/>
                  </a:lnTo>
                  <a:lnTo>
                    <a:pt x="4" y="16298"/>
                  </a:lnTo>
                  <a:lnTo>
                    <a:pt x="4" y="16557"/>
                  </a:lnTo>
                  <a:lnTo>
                    <a:pt x="27906" y="16557"/>
                  </a:lnTo>
                  <a:lnTo>
                    <a:pt x="27906" y="16764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819000"/>
            <a:ext cx="912492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Geomorphic Analysis of Small-Scale Debris Fans 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at Three Central Appalachian Watersheds:  Implications for Controls on Sediment Transport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55920" y="4245120"/>
            <a:ext cx="66927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eve Taylor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partment of Geology and Geography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est Virgini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rgantown, WV  26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524560" y="4075200"/>
            <a:ext cx="4172040" cy="1903320"/>
          </a:xfrm>
          <a:prstGeom prst="rect">
            <a:avLst/>
          </a:prstGeom>
          <a:noFill/>
          <a:ln w="38160">
            <a:solidFill>
              <a:srgbClr val="ff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70360" y="262080"/>
            <a:ext cx="4116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bris Fa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7840" y="936720"/>
            <a:ext cx="4724280" cy="5464080"/>
            <a:chOff x="447840" y="936720"/>
            <a:chExt cx="4724280" cy="5464080"/>
          </a:xfrm>
        </p:grpSpPr>
        <p:sp>
          <p:nvSpPr>
            <p:cNvPr id="137" name=""/>
            <p:cNvSpPr txBox="1"/>
            <p:nvPr/>
          </p:nvSpPr>
          <p:spPr>
            <a:xfrm>
              <a:off x="447840" y="1927080"/>
              <a:ext cx="47242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Valley Bottom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No. of F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Drainage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% Basin Area in Valley Bott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% Valley Bottom in F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otal Fan Area / Basin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Frequenc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Drainage Area / Basin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an Area / Fan Drainage 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40" name=""/>
            <p:cNvSpPr txBox="1"/>
            <p:nvPr/>
          </p:nvSpPr>
          <p:spPr>
            <a:xfrm>
              <a:off x="5657760" y="191772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7.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7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1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.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4.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43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1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0.5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.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46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5.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127240" y="262080"/>
            <a:ext cx="5797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te Summary / Qualitative R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1520" y="936720"/>
            <a:ext cx="4384800" cy="5464080"/>
            <a:chOff x="371520" y="936720"/>
            <a:chExt cx="4384800" cy="5464080"/>
          </a:xfrm>
        </p:grpSpPr>
        <p:sp>
          <p:nvSpPr>
            <p:cNvPr id="153" name=""/>
            <p:cNvSpPr txBox="1"/>
            <p:nvPr/>
          </p:nvSpPr>
          <p:spPr>
            <a:xfrm>
              <a:off x="371520" y="1927080"/>
              <a:ext cx="43848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drock: Sandstone C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ctonic Se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an Site Ele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li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edrock Channel Reac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lley Width Expansion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osional Accommo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bris Flow Evid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bris Fan Oc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nit Valley Bottom 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062000" y="936720"/>
              <a:ext cx="2995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Geomorphic Fa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11800" y="946080"/>
            <a:ext cx="1335240" cy="5445360"/>
            <a:chOff x="5311800" y="946080"/>
            <a:chExt cx="1335240" cy="5445360"/>
          </a:xfrm>
        </p:grpSpPr>
        <p:sp>
          <p:nvSpPr>
            <p:cNvPr id="156" name=""/>
            <p:cNvSpPr txBox="1"/>
            <p:nvPr/>
          </p:nvSpPr>
          <p:spPr>
            <a:xfrm>
              <a:off x="5311800" y="191772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at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36256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892920" y="938160"/>
            <a:ext cx="1335240" cy="5451840"/>
            <a:chOff x="6892920" y="938160"/>
            <a:chExt cx="1335240" cy="5451840"/>
          </a:xfrm>
        </p:grpSpPr>
        <p:sp>
          <p:nvSpPr>
            <p:cNvPr id="159" name=""/>
            <p:cNvSpPr txBox="1"/>
            <p:nvPr/>
          </p:nvSpPr>
          <p:spPr>
            <a:xfrm>
              <a:off x="6892920" y="191628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lat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5960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385120" y="936720"/>
            <a:ext cx="1335240" cy="5464080"/>
            <a:chOff x="8385120" y="936720"/>
            <a:chExt cx="1335240" cy="5464080"/>
          </a:xfrm>
        </p:grpSpPr>
        <p:sp>
          <p:nvSpPr>
            <p:cNvPr id="162" name=""/>
            <p:cNvSpPr txBox="1"/>
            <p:nvPr/>
          </p:nvSpPr>
          <p:spPr>
            <a:xfrm>
              <a:off x="8385120" y="1927080"/>
              <a:ext cx="133524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&amp;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855648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47840" y="114480"/>
            <a:ext cx="561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mplications /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04880" y="814320"/>
            <a:ext cx="86677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andstone Lithofacies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rovides Resisting Medium (Relief, Sl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s Gross Watershed Morp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lief / Sl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ritical Threshold for Debris Flow Occur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Valley Width / Drainage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s Erosional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Sediment Transport Efficiency (Watershed Ex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ate of Hillslope Delivery vs. Channel 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Controlled by Available Accommodati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2392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45000"/>
              <a:buFont typeface="CP1252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Energy Distribution vs. Valley 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gional Hazards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125000"/>
              <a:buFont typeface="CP1252"/>
              <a:buChar char="-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Lithofacies Control on Geomorphic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7351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5041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28880" y="1538280"/>
            <a:ext cx="830592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neral Setting / Overvi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Appalachian Debris F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Geomorphic Anal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Sediment Storage / Transport Effici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264960"/>
            <a:ext cx="73915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rficial Map Criteria for Unglaciated Central Appalachian Land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6880" y="2230560"/>
            <a:ext cx="77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7120" y="2230560"/>
            <a:ext cx="5942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Resid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Colluvium (nose/side s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Colluvium (hol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Channel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Floodplain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Terrace Allu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 / Historic Fa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Fa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Apron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Bould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 Boul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915320" y="2230560"/>
            <a:ext cx="18097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o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119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1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424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8680" y="1220760"/>
            <a:ext cx="793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28800" y="1373040"/>
            <a:ext cx="186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08800" y="137304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7800" y="2230560"/>
            <a:ext cx="29113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-situ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eam/debris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s W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riglacial / M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eriglacial / M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2760" y="2230560"/>
            <a:ext cx="27766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idge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de slope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ollow ve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lood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er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n / fan-ter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p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ould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oul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141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1128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184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4080" y="1239840"/>
            <a:ext cx="1573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2680" y="1353960"/>
            <a:ext cx="15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and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10160" y="2249640"/>
            <a:ext cx="33336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, snd l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.-bldr. diamic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les-bou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bbles-bou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240680" y="1220760"/>
            <a:ext cx="1487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Te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43040" y="395280"/>
            <a:ext cx="5046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alley-Bottom Unit Sub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040" y="2949480"/>
            <a:ext cx="2606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p1   0.5-1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p2   1.0-2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4480" y="2968560"/>
            <a:ext cx="242244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1   2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2   2.0-4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3   4.0-6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t4   6.0-8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9120" y="2967120"/>
            <a:ext cx="35416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f    at channel 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    at channel 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1  2.0-4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2  4.0-6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3  6.0-8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4  8.0-10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Qf5  &gt;10.0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8120" y="1031760"/>
            <a:ext cx="738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rface Heights Relative to Active Channel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58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666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0958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2400" y="1920960"/>
            <a:ext cx="1852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Floodp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70280" y="1920960"/>
            <a:ext cx="13780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Ter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330960" y="1920960"/>
            <a:ext cx="29368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Fan / Fan-Ter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16040" y="150840"/>
            <a:ext cx="6881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ampshire Formation Lithofacie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Upper Devonian Acadian Clastic W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6440" y="2271600"/>
            <a:ext cx="4390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m Thickness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asin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SS Bed Thickness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SS in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 / Sh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MS/SS SS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MS SS Body Thick.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Coarse Mmbr / Total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Coarse Mmbr / Fine Mmbr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37080" y="229248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84960" y="22827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34280" y="22845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rox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192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11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68360" y="1284120"/>
            <a:ext cx="165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f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02040" y="1284120"/>
            <a:ext cx="11779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er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38840" y="1284120"/>
            <a:ext cx="928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597880" y="1293840"/>
            <a:ext cx="88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16040" y="150840"/>
            <a:ext cx="688176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Hampshire Formation Lithofacie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Upper Devonian Acadian Clastic W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6440" y="2271600"/>
            <a:ext cx="4390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m Thickness 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asin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SS Bed Thickness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SS in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 / Sh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MS/SS SS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vg. MS SS Body Thick. (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% Coarse Mmbr / Total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Coarse Mmbr / Fine Mmbr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37080" y="229248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84960" y="22827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Di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4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34280" y="2284560"/>
            <a:ext cx="16430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ss,sltst,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nma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rox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3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1923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11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8360" y="1284120"/>
            <a:ext cx="165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hof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2040" y="1284120"/>
            <a:ext cx="11779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er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738840" y="1284120"/>
            <a:ext cx="928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97880" y="1293840"/>
            <a:ext cx="88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Lit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389320" y="262080"/>
            <a:ext cx="5283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ummary of Basi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47840" y="936720"/>
            <a:ext cx="4753080" cy="5464080"/>
            <a:chOff x="447840" y="936720"/>
            <a:chExt cx="4753080" cy="5464080"/>
          </a:xfrm>
        </p:grpSpPr>
        <p:sp>
          <p:nvSpPr>
            <p:cNvPr id="104" name=""/>
            <p:cNvSpPr txBox="1"/>
            <p:nvPr/>
          </p:nvSpPr>
          <p:spPr>
            <a:xfrm>
              <a:off x="447840" y="1927080"/>
              <a:ext cx="4753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ax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verage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Relief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ypsometric Integ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hreve Basin Magnitu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uggedness (Dd*H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st Order Stream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ibutary Junction Freq.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07" name=""/>
            <p:cNvSpPr txBox="1"/>
            <p:nvPr/>
          </p:nvSpPr>
          <p:spPr>
            <a:xfrm>
              <a:off x="5573880" y="1917720"/>
              <a:ext cx="11160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3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099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65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10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13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389320" y="262080"/>
            <a:ext cx="5283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ummary of Basin Morph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87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781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49440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7840" y="936720"/>
            <a:ext cx="4753080" cy="5464080"/>
            <a:chOff x="447840" y="936720"/>
            <a:chExt cx="4753080" cy="5464080"/>
          </a:xfrm>
        </p:grpSpPr>
        <p:sp>
          <p:nvSpPr>
            <p:cNvPr id="120" name=""/>
            <p:cNvSpPr txBox="1"/>
            <p:nvPr/>
          </p:nvSpPr>
          <p:spPr>
            <a:xfrm>
              <a:off x="447840" y="1927080"/>
              <a:ext cx="4753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Area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aximum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verage Basin El. (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sin Relief (k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Hypsometric Integ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hreve Basin Magnitu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ainage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uggedness (Dd*H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st Order Stream Density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ibutary Junction Freq. (km</a:t>
              </a:r>
              <a:r>
                <a:rPr b="1" lang="en-US" sz="24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749160" y="936720"/>
              <a:ext cx="379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rphometric 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14840" y="946080"/>
            <a:ext cx="1268280" cy="5445360"/>
            <a:chOff x="5514840" y="946080"/>
            <a:chExt cx="1268280" cy="5445360"/>
          </a:xfrm>
        </p:grpSpPr>
        <p:sp>
          <p:nvSpPr>
            <p:cNvPr id="123" name=""/>
            <p:cNvSpPr txBox="1"/>
            <p:nvPr/>
          </p:nvSpPr>
          <p:spPr>
            <a:xfrm>
              <a:off x="5573880" y="1917720"/>
              <a:ext cx="111600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5.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3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099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765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514840" y="946080"/>
              <a:ext cx="1268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er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174080" y="938160"/>
            <a:ext cx="996840" cy="5451840"/>
            <a:chOff x="7174080" y="938160"/>
            <a:chExt cx="996840" cy="5451840"/>
          </a:xfrm>
        </p:grpSpPr>
        <p:sp>
          <p:nvSpPr>
            <p:cNvPr id="126" name=""/>
            <p:cNvSpPr txBox="1"/>
            <p:nvPr/>
          </p:nvSpPr>
          <p:spPr>
            <a:xfrm>
              <a:off x="7201080" y="19162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9.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5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7174080" y="938160"/>
              <a:ext cx="996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No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632800" y="936720"/>
            <a:ext cx="968400" cy="5464080"/>
            <a:chOff x="8632800" y="936720"/>
            <a:chExt cx="968400" cy="5464080"/>
          </a:xfrm>
        </p:grpSpPr>
        <p:sp>
          <p:nvSpPr>
            <p:cNvPr id="129" name=""/>
            <p:cNvSpPr txBox="1"/>
            <p:nvPr/>
          </p:nvSpPr>
          <p:spPr>
            <a:xfrm>
              <a:off x="8655120" y="1927080"/>
              <a:ext cx="946080" cy="447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1.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3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8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8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0.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4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3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632800" y="936720"/>
              <a:ext cx="94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R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Gateway Customer</dc:creator>
  <dc:description/>
  <dc:language>en-US</dc:language>
  <cp:lastModifiedBy>Authorized Gateway Customer</cp:lastModifiedBy>
  <cp:revision>0</cp:revision>
  <dc:subject/>
  <dc:title>PhD proposal</dc:title>
</cp:coreProperties>
</file>