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25880" y="1151280"/>
            <a:ext cx="74062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25880" y="2305080"/>
            <a:ext cx="7406280" cy="16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325880" y="4105440"/>
            <a:ext cx="7406280" cy="16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25880" y="1151280"/>
            <a:ext cx="74062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25880" y="2305080"/>
            <a:ext cx="3614040" cy="16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21000" y="2305080"/>
            <a:ext cx="3614040" cy="16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25880" y="4105440"/>
            <a:ext cx="3614040" cy="16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21000" y="4105440"/>
            <a:ext cx="3614040" cy="16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25880" y="1151280"/>
            <a:ext cx="74062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25880" y="2305080"/>
            <a:ext cx="2384640" cy="16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30040" y="2305080"/>
            <a:ext cx="2384640" cy="16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334560" y="2305080"/>
            <a:ext cx="2384640" cy="16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325880" y="4105440"/>
            <a:ext cx="2384640" cy="16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830040" y="4105440"/>
            <a:ext cx="2384640" cy="16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334560" y="4105440"/>
            <a:ext cx="2384640" cy="16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25880" y="1151280"/>
            <a:ext cx="74062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1325880" y="2305080"/>
            <a:ext cx="7406280" cy="34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25880" y="1151280"/>
            <a:ext cx="74062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1325880" y="2305080"/>
            <a:ext cx="7406280" cy="34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25880" y="1151280"/>
            <a:ext cx="74062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325880" y="2305080"/>
            <a:ext cx="3614040" cy="34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21000" y="2305080"/>
            <a:ext cx="3614040" cy="34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25880" y="1151280"/>
            <a:ext cx="74062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1325880" y="1151280"/>
            <a:ext cx="74062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25880" y="1151280"/>
            <a:ext cx="74062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25880" y="2305080"/>
            <a:ext cx="3614040" cy="16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21000" y="2305080"/>
            <a:ext cx="3614040" cy="34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1325880" y="4105440"/>
            <a:ext cx="3614040" cy="16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5880" y="1151280"/>
            <a:ext cx="74062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25880" y="2305080"/>
            <a:ext cx="3614040" cy="34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21000" y="2305080"/>
            <a:ext cx="3614040" cy="16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21000" y="4105440"/>
            <a:ext cx="3614040" cy="16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25880" y="1151280"/>
            <a:ext cx="74062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25880" y="2305080"/>
            <a:ext cx="3614040" cy="16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1000" y="2305080"/>
            <a:ext cx="3614040" cy="16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25880" y="4105440"/>
            <a:ext cx="7406280" cy="16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0058400" cy="777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 txBox="1"/>
          <p:nvPr/>
        </p:nvSpPr>
        <p:spPr>
          <a:xfrm>
            <a:off x="849240" y="809640"/>
            <a:ext cx="2593800" cy="15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. Type I Criteria: Age, Origin, Landform, Materia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1. Age of Surficial Mater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 = Holocene (&lt; 10,000 years ol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W = Wisconsin (ca. 89 to 10 k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 = Illinoi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P = Pleistocene Undifferentia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EP = Early Pleistoce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MPl= Middle Pleistoce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LP = Late Pleistoce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Q = Quaternary Undifferentia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Z = Cenozoic Undifferentia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"/>
          <p:cNvSpPr txBox="1"/>
          <p:nvPr/>
        </p:nvSpPr>
        <p:spPr>
          <a:xfrm>
            <a:off x="3098880" y="1365120"/>
            <a:ext cx="2338560" cy="22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3. Landform Units (Cont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B. Valley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 = channe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p = floodplain (RI &lt;/= 2-3 yr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t = terrace (t1, t2 …tn; height AMRL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 = fa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-t = fan terrace (f1, f2 …fn; height AMRL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 = apron (footslope deposit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lo = lo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lv = lev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ox = oxbow, abandoned cha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. Ot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t = flow track (debris flow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m = hummocky topograph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rb = rock-block slide depos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x = excavated, fill, disturbed grou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 = del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u = du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 txBox="1"/>
          <p:nvPr/>
        </p:nvSpPr>
        <p:spPr>
          <a:xfrm>
            <a:off x="3108240" y="3724200"/>
            <a:ext cx="2338560" cy="32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4. Material (Composition and Textur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b = boulders (&gt;256 mm; clast suppor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 = cobbles (64-256 mm; clast suppor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p = pebbles (4-64 mm; clast suppor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g = gravel (&gt;2 mm; clast suppor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sg = mixed sand and gra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s = sand (0.05-2.0 m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st = silt (0.002-0.05 m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y = clay (&lt;0.002 m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l = loam (mix of sand, silt, cla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 = diamicton undifferentia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bbd = very bouldery diamict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bd = bouldery diamict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d = cobbly diamict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pd = pebbly diamict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s = sandy matrix diamict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t = silty matrix diamict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y = clayey-matrix diamict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rk = bedrock (modify with litholog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rs = rotten stone, saproli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tr = travert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tu = tuf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ma = mar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og = organic-rich sedim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w = 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u = unk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847800" y="2451240"/>
            <a:ext cx="196524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2. Origin / Surficial Proces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. Hillslo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r = residuum (in situ  regolith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 = colluvium  (mass wasting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s = debris sli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rf = rock fall or topp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B. Valley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 = stream alluvium (normal flow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cf = hyperconcentrated fl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f = debris fl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sw = slackwater de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. Lacustr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l = lacustrine deposit, undiff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lb = lake-bottom depos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ld = lacustrine delta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. Ot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g = glaciofluvial, undifferentia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go = glacial outwas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e = eoli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o = collapse (solu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r = cryoturb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x = anthropogenic disturb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 = artificial fi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rk = bedrock (process n/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6907320" y="798480"/>
            <a:ext cx="2098800" cy="4614840"/>
            <a:chOff x="6907320" y="798480"/>
            <a:chExt cx="2098800" cy="4614840"/>
          </a:xfrm>
        </p:grpSpPr>
        <p:sp>
          <p:nvSpPr>
            <p:cNvPr id="42" name=""/>
            <p:cNvSpPr txBox="1"/>
            <p:nvPr/>
          </p:nvSpPr>
          <p:spPr>
            <a:xfrm>
              <a:off x="6907320" y="798480"/>
              <a:ext cx="2098800" cy="4614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. Type II Criteria: 2-D Surface Featur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  Kars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v = blind valle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 = cave (human entry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tive cave passag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bandoned cave passag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v = dry valle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kw = karst windo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k = sinkhole (dolin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kst = sinking strea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ks = karst spr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 Hillslop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s = headsca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s = debris-slide sca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s = landslide scar undifferentiat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s = rotational slide (slump) sca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s = translational slide sca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b = rock-block slide sca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c = terracett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. Oth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f = water fal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 = water, lake, reservoi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r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t = wetland, undifferentiat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h = wetland, heat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m = wetland, mars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s = swam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arry (with highwall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gravel pi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ep mine open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rip mine (with highwall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ne subsidence zon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c = rock cit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car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ander scroll on floodplai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custrine strandlin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"/>
            <p:cNvGrpSpPr/>
            <p:nvPr/>
          </p:nvGrpSpPr>
          <p:grpSpPr>
            <a:xfrm>
              <a:off x="7013520" y="5149800"/>
              <a:ext cx="152640" cy="86040"/>
              <a:chOff x="7013520" y="5149800"/>
              <a:chExt cx="152640" cy="86040"/>
            </a:xfrm>
          </p:grpSpPr>
          <p:sp>
            <p:nvSpPr>
              <p:cNvPr id="44" name=""/>
              <p:cNvSpPr/>
              <p:nvPr/>
            </p:nvSpPr>
            <p:spPr>
              <a:xfrm>
                <a:off x="7037280" y="5168880"/>
                <a:ext cx="109800" cy="38520"/>
              </a:xfrm>
              <a:custGeom>
                <a:avLst/>
                <a:gdLst/>
                <a:ahLst/>
                <a:rect l="0" t="0" r="r" b="b"/>
                <a:pathLst>
                  <a:path fill="none" w="305" h="107">
                    <a:moveTo>
                      <a:pt x="0" y="107"/>
                    </a:moveTo>
                    <a:lnTo>
                      <a:pt x="39" y="53"/>
                    </a:lnTo>
                    <a:lnTo>
                      <a:pt x="66" y="26"/>
                    </a:lnTo>
                    <a:lnTo>
                      <a:pt x="119" y="13"/>
                    </a:lnTo>
                    <a:lnTo>
                      <a:pt x="159" y="13"/>
                    </a:lnTo>
                    <a:lnTo>
                      <a:pt x="212" y="0"/>
                    </a:lnTo>
                    <a:lnTo>
                      <a:pt x="278" y="0"/>
                    </a:lnTo>
                    <a:lnTo>
                      <a:pt x="305" y="26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61040" y="5207040"/>
                <a:ext cx="105120" cy="28800"/>
              </a:xfrm>
              <a:custGeom>
                <a:avLst/>
                <a:gdLst/>
                <a:ahLst/>
                <a:rect l="0" t="0" r="r" b="b"/>
                <a:pathLst>
                  <a:path fill="none" w="292" h="80">
                    <a:moveTo>
                      <a:pt x="0" y="80"/>
                    </a:moveTo>
                    <a:lnTo>
                      <a:pt x="39" y="26"/>
                    </a:lnTo>
                    <a:lnTo>
                      <a:pt x="92" y="13"/>
                    </a:lnTo>
                    <a:lnTo>
                      <a:pt x="145" y="0"/>
                    </a:lnTo>
                    <a:lnTo>
                      <a:pt x="199" y="0"/>
                    </a:lnTo>
                    <a:lnTo>
                      <a:pt x="252" y="0"/>
                    </a:lnTo>
                    <a:lnTo>
                      <a:pt x="292" y="39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013520" y="5149800"/>
                <a:ext cx="81360" cy="25920"/>
              </a:xfrm>
              <a:custGeom>
                <a:avLst/>
                <a:gdLst/>
                <a:ahLst/>
                <a:rect l="0" t="0" r="r" b="b"/>
                <a:pathLst>
                  <a:path fill="none" w="226" h="72">
                    <a:moveTo>
                      <a:pt x="226" y="48"/>
                    </a:moveTo>
                    <a:lnTo>
                      <a:pt x="159" y="0"/>
                    </a:lnTo>
                    <a:lnTo>
                      <a:pt x="106" y="0"/>
                    </a:lnTo>
                    <a:lnTo>
                      <a:pt x="52" y="0"/>
                    </a:lnTo>
                    <a:lnTo>
                      <a:pt x="0" y="72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" name=""/>
            <p:cNvGrpSpPr/>
            <p:nvPr/>
          </p:nvGrpSpPr>
          <p:grpSpPr>
            <a:xfrm>
              <a:off x="7008840" y="5292720"/>
              <a:ext cx="162000" cy="47520"/>
              <a:chOff x="7008840" y="5292720"/>
              <a:chExt cx="162000" cy="47520"/>
            </a:xfrm>
          </p:grpSpPr>
          <p:sp>
            <p:nvSpPr>
              <p:cNvPr id="48" name=""/>
              <p:cNvSpPr/>
              <p:nvPr/>
            </p:nvSpPr>
            <p:spPr>
              <a:xfrm flipV="1">
                <a:off x="7008840" y="5292720"/>
                <a:ext cx="162000" cy="47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custDash>
                  <a:ds d="202857" sp="2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075440" y="5302080"/>
                <a:ext cx="25560" cy="255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7032600" y="5025960"/>
              <a:ext cx="133560" cy="66960"/>
              <a:chOff x="7032600" y="5025960"/>
              <a:chExt cx="133560" cy="66960"/>
            </a:xfrm>
          </p:grpSpPr>
          <p:sp>
            <p:nvSpPr>
              <p:cNvPr id="51" name=""/>
              <p:cNvSpPr/>
              <p:nvPr/>
            </p:nvSpPr>
            <p:spPr>
              <a:xfrm>
                <a:off x="7032600" y="5049720"/>
                <a:ext cx="133560" cy="43200"/>
              </a:xfrm>
              <a:custGeom>
                <a:avLst/>
                <a:gdLst/>
                <a:ahLst/>
                <a:rect l="0" t="0" r="r" b="b"/>
                <a:pathLst>
                  <a:path fill="none" w="371" h="120">
                    <a:moveTo>
                      <a:pt x="0" y="120"/>
                    </a:moveTo>
                    <a:lnTo>
                      <a:pt x="0" y="120"/>
                    </a:lnTo>
                    <a:cubicBezTo>
                      <a:pt x="65" y="120"/>
                      <a:pt x="129" y="114"/>
                      <a:pt x="186" y="104"/>
                    </a:cubicBezTo>
                    <a:cubicBezTo>
                      <a:pt x="242" y="93"/>
                      <a:pt x="289" y="78"/>
                      <a:pt x="321" y="60"/>
                    </a:cubicBezTo>
                    <a:cubicBezTo>
                      <a:pt x="354" y="42"/>
                      <a:pt x="371" y="21"/>
                      <a:pt x="371" y="0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flipV="1">
                <a:off x="7032600" y="5054760"/>
                <a:ext cx="0" cy="2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H="1" flipV="1">
                <a:off x="7075440" y="5054760"/>
                <a:ext cx="972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flipH="1" flipV="1">
                <a:off x="7113600" y="5049720"/>
                <a:ext cx="936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H="1" flipV="1">
                <a:off x="7142040" y="5025960"/>
                <a:ext cx="1908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7032600" y="3664080"/>
              <a:ext cx="114480" cy="85320"/>
              <a:chOff x="7032600" y="3664080"/>
              <a:chExt cx="114480" cy="85320"/>
            </a:xfrm>
          </p:grpSpPr>
          <p:sp>
            <p:nvSpPr>
              <p:cNvPr id="57" name=""/>
              <p:cNvSpPr/>
              <p:nvPr/>
            </p:nvSpPr>
            <p:spPr>
              <a:xfrm>
                <a:off x="7085160" y="3678120"/>
                <a:ext cx="61920" cy="71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032600" y="3664080"/>
                <a:ext cx="57600" cy="33840"/>
              </a:xfrm>
              <a:custGeom>
                <a:avLst/>
                <a:gdLst/>
                <a:ahLst/>
                <a:rect l="0" t="0" r="r" b="b"/>
                <a:pathLst>
                  <a:path fill="none" w="160" h="94">
                    <a:moveTo>
                      <a:pt x="160" y="81"/>
                    </a:moveTo>
                    <a:lnTo>
                      <a:pt x="147" y="27"/>
                    </a:lnTo>
                    <a:lnTo>
                      <a:pt x="121" y="0"/>
                    </a:lnTo>
                    <a:lnTo>
                      <a:pt x="93" y="27"/>
                    </a:lnTo>
                    <a:lnTo>
                      <a:pt x="80" y="67"/>
                    </a:lnTo>
                    <a:lnTo>
                      <a:pt x="67" y="94"/>
                    </a:lnTo>
                    <a:lnTo>
                      <a:pt x="26" y="94"/>
                    </a:lnTo>
                    <a:lnTo>
                      <a:pt x="0" y="53"/>
                    </a:lnTo>
                    <a:lnTo>
                      <a:pt x="0" y="13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7013520" y="1620720"/>
              <a:ext cx="166680" cy="33480"/>
              <a:chOff x="7013520" y="1620720"/>
              <a:chExt cx="166680" cy="33480"/>
            </a:xfrm>
          </p:grpSpPr>
          <p:sp>
            <p:nvSpPr>
              <p:cNvPr id="60" name=""/>
              <p:cNvSpPr/>
              <p:nvPr/>
            </p:nvSpPr>
            <p:spPr>
              <a:xfrm>
                <a:off x="7013520" y="1620720"/>
                <a:ext cx="16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custDash>
                  <a:ds d="202857" sp="2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013520" y="1654200"/>
                <a:ext cx="16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custDash>
                  <a:ds d="202857" sp="2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7008840" y="1501920"/>
              <a:ext cx="166680" cy="33120"/>
              <a:chOff x="7008840" y="1501920"/>
              <a:chExt cx="166680" cy="33120"/>
            </a:xfrm>
          </p:grpSpPr>
          <p:sp>
            <p:nvSpPr>
              <p:cNvPr id="63" name=""/>
              <p:cNvSpPr/>
              <p:nvPr/>
            </p:nvSpPr>
            <p:spPr>
              <a:xfrm>
                <a:off x="7013520" y="1501920"/>
                <a:ext cx="162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008840" y="1535040"/>
                <a:ext cx="16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"/>
          <p:cNvSpPr txBox="1"/>
          <p:nvPr/>
        </p:nvSpPr>
        <p:spPr>
          <a:xfrm>
            <a:off x="6908760" y="5443560"/>
            <a:ext cx="2341440" cy="16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. Type III Criteria: - Data Reference Poi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Sandwhich symbols showing stratigraph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epth to bedrock (drilling or seismic dat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Minimum depth to bedrock (log dat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Test hole / bo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We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RE = refusal (in test boring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and-auger hole, shovel hole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ossil local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Paleocurrent dir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Observa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851040" y="5557680"/>
            <a:ext cx="164160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3. Landform Un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. Hillslo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n = no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sl = side slo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 = holl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veneer = &lt; 2m of regolit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blanket = &gt; 2 m of regoli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bf = boulder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bs = boulder str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pg = patterned grou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tls = talus depos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794040" y="7891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able 2-5.  Surficial Map Criteria for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entral Appalachians (after Kite, 1994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09600" y="3803760"/>
            <a:ext cx="3492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eve Taylor</dc:creator>
  <dc:description/>
  <dc:language>en-US</dc:language>
  <cp:lastModifiedBy>Steve Taylor</cp:lastModifiedBy>
  <cp:revision>0</cp:revision>
  <dc:subject/>
  <dc:title>No Slide Title</dc:title>
</cp:coreProperties>
</file>