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3004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34560" y="230508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2588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83004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334560" y="4105440"/>
            <a:ext cx="23846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740628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325880" y="1151280"/>
            <a:ext cx="74062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34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1000" y="410544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5880" y="1151280"/>
            <a:ext cx="7406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588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1000" y="2305080"/>
            <a:ext cx="361404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5880" y="4105440"/>
            <a:ext cx="7406280" cy="16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849240" y="809640"/>
            <a:ext cx="25938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Type I Criteria: Age, Origin, Landform, Materi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. Age of Surficial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ocene (&lt; 10,000 years ol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isconsin (ca. 89 to 10 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 = Illino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leistocene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P = Early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Pl= Middl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P = Late Pleistoc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Q = Quaternary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Z = Cenozoic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3098880" y="1365120"/>
            <a:ext cx="23385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 (Con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 = cha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p = floodplain (RI &lt;/= 2-3 y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= terrace (t1, t2 …t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f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-t = fan terrace (f1, f2 …fn; height AMR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apron (footslope depo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 = 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 = lev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x = oxbow, abandoned cha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t = flow track (debris flow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m = hummocky topo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b = rock-block slide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excavated, fill, disturb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el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u = d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108240" y="3724200"/>
            <a:ext cx="23385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. Material (Composition and Textu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 = boulders (&gt;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bbles (64-256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 = pebbles (4-64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ravel (&gt;2 mm; clast suppor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g = mixed sand and gra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 = sand (0.05-2.0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 = silt (0.002-0.05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y = clay (&lt;0.002 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oam (mix of sand, silt, cla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 = diamicton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bd = very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d = boulder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d = co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d = pebbly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sand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t = silty 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y = clayey-matrix diamic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modify with litholog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 = rotten stone, sapro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r = travert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u = tu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 = m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g = organic-rich sedi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 =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 = unk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47800" y="2451240"/>
            <a:ext cx="196524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. Origin / Surficial Proc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 = residuum (in situ  regoli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 = colluvium  (mass wast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s = debris 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f = rock fall or top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. Valley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= stream alluvium (normal flow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cf = hyperconcentrated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f = debris 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w = slackwater de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Lacus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 = lacustrine deposit, undiff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b = lake-bottom depo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d = lacustrine delta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.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 = glaciofluvial, undifferent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o = glacial outwa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 = eo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 = collapse (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 = cryoturb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x = anthropogenic disturb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 = artificial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k = bedrock (process n/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907320" y="798480"/>
            <a:ext cx="2098800" cy="4614840"/>
            <a:chOff x="6907320" y="798480"/>
            <a:chExt cx="2098800" cy="4614840"/>
          </a:xfrm>
        </p:grpSpPr>
        <p:sp>
          <p:nvSpPr>
            <p:cNvPr id="42" name=""/>
            <p:cNvSpPr txBox="1"/>
            <p:nvPr/>
          </p:nvSpPr>
          <p:spPr>
            <a:xfrm>
              <a:off x="6907320" y="798480"/>
              <a:ext cx="2098800" cy="46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 Type II Criteria: 2-D Surface Featu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 Ka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v = blind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 = cave (human entry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andoned cave pass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v = dry vall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w = karst wind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 = sinkhole (dolin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st = sinking str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s = karst 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Hillsl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s = head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 = debris-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 = landslide scar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 = rotational slide (slump)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s = translational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b = rock-block slide sc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 = terracet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f = water f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 = water, lake, reservoi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t = wetland, undifferenti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 = wetland, h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m = wetland, mar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 = swam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ry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l p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ep mine op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ip mine (with highwall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e subsidence z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c = rock c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ar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ander scroll on floodpl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custrine strandli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013520" y="5149800"/>
              <a:ext cx="152640" cy="86040"/>
              <a:chOff x="7013520" y="5149800"/>
              <a:chExt cx="152640" cy="86040"/>
            </a:xfrm>
          </p:grpSpPr>
          <p:sp>
            <p:nvSpPr>
              <p:cNvPr id="44" name=""/>
              <p:cNvSpPr/>
              <p:nvPr/>
            </p:nvSpPr>
            <p:spPr>
              <a:xfrm>
                <a:off x="7037280" y="5168880"/>
                <a:ext cx="109800" cy="38520"/>
              </a:xfrm>
              <a:custGeom>
                <a:avLst/>
                <a:gdLst/>
                <a:ahLst/>
                <a:rect l="0" t="0" r="r" b="b"/>
                <a:pathLst>
                  <a:path fill="none" w="305" h="107">
                    <a:moveTo>
                      <a:pt x="0" y="107"/>
                    </a:moveTo>
                    <a:lnTo>
                      <a:pt x="39" y="53"/>
                    </a:lnTo>
                    <a:lnTo>
                      <a:pt x="66" y="26"/>
                    </a:lnTo>
                    <a:lnTo>
                      <a:pt x="119" y="13"/>
                    </a:lnTo>
                    <a:lnTo>
                      <a:pt x="159" y="13"/>
                    </a:lnTo>
                    <a:lnTo>
                      <a:pt x="212" y="0"/>
                    </a:lnTo>
                    <a:lnTo>
                      <a:pt x="278" y="0"/>
                    </a:lnTo>
                    <a:lnTo>
                      <a:pt x="305" y="2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61040" y="5207040"/>
                <a:ext cx="105120" cy="28800"/>
              </a:xfrm>
              <a:custGeom>
                <a:avLst/>
                <a:gdLst/>
                <a:ahLst/>
                <a:rect l="0" t="0" r="r" b="b"/>
                <a:pathLst>
                  <a:path fill="none" w="292" h="80">
                    <a:moveTo>
                      <a:pt x="0" y="80"/>
                    </a:moveTo>
                    <a:lnTo>
                      <a:pt x="39" y="26"/>
                    </a:lnTo>
                    <a:lnTo>
                      <a:pt x="92" y="13"/>
                    </a:lnTo>
                    <a:lnTo>
                      <a:pt x="145" y="0"/>
                    </a:lnTo>
                    <a:lnTo>
                      <a:pt x="199" y="0"/>
                    </a:lnTo>
                    <a:lnTo>
                      <a:pt x="252" y="0"/>
                    </a:lnTo>
                    <a:lnTo>
                      <a:pt x="292" y="3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13520" y="5149800"/>
                <a:ext cx="81360" cy="25920"/>
              </a:xfrm>
              <a:custGeom>
                <a:avLst/>
                <a:gdLst/>
                <a:ahLst/>
                <a:rect l="0" t="0" r="r" b="b"/>
                <a:pathLst>
                  <a:path fill="none" w="226" h="72">
                    <a:moveTo>
                      <a:pt x="226" y="48"/>
                    </a:moveTo>
                    <a:lnTo>
                      <a:pt x="159" y="0"/>
                    </a:lnTo>
                    <a:lnTo>
                      <a:pt x="106" y="0"/>
                    </a:lnTo>
                    <a:lnTo>
                      <a:pt x="52" y="0"/>
                    </a:lnTo>
                    <a:lnTo>
                      <a:pt x="0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7008840" y="5292720"/>
              <a:ext cx="162000" cy="47520"/>
              <a:chOff x="7008840" y="5292720"/>
              <a:chExt cx="162000" cy="4752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7008840" y="5292720"/>
                <a:ext cx="16200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75440" y="5302080"/>
                <a:ext cx="25560" cy="25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032600" y="5025960"/>
              <a:ext cx="133560" cy="66960"/>
              <a:chOff x="7032600" y="5025960"/>
              <a:chExt cx="133560" cy="66960"/>
            </a:xfrm>
          </p:grpSpPr>
          <p:sp>
            <p:nvSpPr>
              <p:cNvPr id="51" name=""/>
              <p:cNvSpPr/>
              <p:nvPr/>
            </p:nvSpPr>
            <p:spPr>
              <a:xfrm>
                <a:off x="7032600" y="5049720"/>
                <a:ext cx="133560" cy="43200"/>
              </a:xfrm>
              <a:custGeom>
                <a:avLst/>
                <a:gdLst/>
                <a:ahLst/>
                <a:rect l="0" t="0" r="r" b="b"/>
                <a:pathLst>
                  <a:path fill="none" w="371" h="120">
                    <a:moveTo>
                      <a:pt x="0" y="120"/>
                    </a:moveTo>
                    <a:lnTo>
                      <a:pt x="0" y="120"/>
                    </a:lnTo>
                    <a:cubicBezTo>
                      <a:pt x="65" y="120"/>
                      <a:pt x="129" y="114"/>
                      <a:pt x="186" y="104"/>
                    </a:cubicBezTo>
                    <a:cubicBezTo>
                      <a:pt x="242" y="93"/>
                      <a:pt x="289" y="78"/>
                      <a:pt x="321" y="60"/>
                    </a:cubicBezTo>
                    <a:cubicBezTo>
                      <a:pt x="354" y="42"/>
                      <a:pt x="371" y="21"/>
                      <a:pt x="371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7032600" y="5054760"/>
                <a:ext cx="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7075440" y="5054760"/>
                <a:ext cx="97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7113600" y="5049720"/>
                <a:ext cx="93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142040" y="5025960"/>
                <a:ext cx="190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032600" y="3664080"/>
              <a:ext cx="114480" cy="85320"/>
              <a:chOff x="7032600" y="3664080"/>
              <a:chExt cx="114480" cy="85320"/>
            </a:xfrm>
          </p:grpSpPr>
          <p:sp>
            <p:nvSpPr>
              <p:cNvPr id="57" name=""/>
              <p:cNvSpPr/>
              <p:nvPr/>
            </p:nvSpPr>
            <p:spPr>
              <a:xfrm>
                <a:off x="7085160" y="3678120"/>
                <a:ext cx="61920" cy="71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32600" y="3664080"/>
                <a:ext cx="57600" cy="33840"/>
              </a:xfrm>
              <a:custGeom>
                <a:avLst/>
                <a:gdLst/>
                <a:ahLst/>
                <a:rect l="0" t="0" r="r" b="b"/>
                <a:pathLst>
                  <a:path fill="none" w="160" h="94">
                    <a:moveTo>
                      <a:pt x="160" y="81"/>
                    </a:moveTo>
                    <a:lnTo>
                      <a:pt x="147" y="27"/>
                    </a:lnTo>
                    <a:lnTo>
                      <a:pt x="121" y="0"/>
                    </a:lnTo>
                    <a:lnTo>
                      <a:pt x="93" y="27"/>
                    </a:lnTo>
                    <a:lnTo>
                      <a:pt x="80" y="67"/>
                    </a:lnTo>
                    <a:lnTo>
                      <a:pt x="67" y="94"/>
                    </a:lnTo>
                    <a:lnTo>
                      <a:pt x="26" y="94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013520" y="1620720"/>
              <a:ext cx="166680" cy="33480"/>
              <a:chOff x="7013520" y="1620720"/>
              <a:chExt cx="166680" cy="33480"/>
            </a:xfrm>
          </p:grpSpPr>
          <p:sp>
            <p:nvSpPr>
              <p:cNvPr id="60" name=""/>
              <p:cNvSpPr/>
              <p:nvPr/>
            </p:nvSpPr>
            <p:spPr>
              <a:xfrm>
                <a:off x="7013520" y="162072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13520" y="16542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008840" y="1501920"/>
              <a:ext cx="166680" cy="33120"/>
              <a:chOff x="7008840" y="1501920"/>
              <a:chExt cx="166680" cy="33120"/>
            </a:xfrm>
          </p:grpSpPr>
          <p:sp>
            <p:nvSpPr>
              <p:cNvPr id="63" name=""/>
              <p:cNvSpPr/>
              <p:nvPr/>
            </p:nvSpPr>
            <p:spPr>
              <a:xfrm>
                <a:off x="7013520" y="1501920"/>
                <a:ext cx="16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08840" y="1535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 txBox="1"/>
          <p:nvPr/>
        </p:nvSpPr>
        <p:spPr>
          <a:xfrm>
            <a:off x="6908760" y="5443560"/>
            <a:ext cx="234144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. Type III Criteria: - Data Reference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ndwhich symbols showing stratigrap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pth to bedrock (drilling or seismic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nimum depth to bedrock (log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est hole / b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 = refusal (in test bor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nd-auger hole, shovel ho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ssi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aleocurrent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bserva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1040" y="5557680"/>
            <a:ext cx="1641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. Landform Un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. Hill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 = n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 = side 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 = h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neer = &lt; 2m of regol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lanket = &gt; 2 m of regol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f = boulder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s = boulder str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g = patterned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ls = talus depos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94040" y="7891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4-5.  Surficial Map Criteria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Appalachians (after Kite, 199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9000" y="468360"/>
            <a:ext cx="1257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:tables:surfcrit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08480" y="7155000"/>
            <a:ext cx="1441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able 4-5: Page 1 of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Taylor</dc:creator>
  <dc:description/>
  <dc:language>en-US</dc:language>
  <cp:lastModifiedBy>Steve Taylor</cp:lastModifiedBy>
  <cp:revision>0</cp:revision>
  <dc:subject/>
  <dc:title>No Slide Title</dc:title>
</cp:coreProperties>
</file>