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847800" y="717480"/>
            <a:ext cx="804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20200"/>
                </a:solidFill>
                <a:latin typeface="Arial"/>
                <a:ea typeface="Arial"/>
              </a:rPr>
              <a:t>Figure 8-?.  Mass-balance relationships in a soil-covered drainage system (from Selby, 1993)… from Dietrich and Dunne, 1978???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"/>
          <p:cNvGrpSpPr/>
          <p:nvPr/>
        </p:nvGrpSpPr>
        <p:grpSpPr>
          <a:xfrm>
            <a:off x="558720" y="1301760"/>
            <a:ext cx="8128080" cy="4946760"/>
            <a:chOff x="558720" y="1301760"/>
            <a:chExt cx="8128080" cy="4946760"/>
          </a:xfrm>
        </p:grpSpPr>
        <p:sp>
          <p:nvSpPr>
            <p:cNvPr id="39" name=""/>
            <p:cNvSpPr/>
            <p:nvPr/>
          </p:nvSpPr>
          <p:spPr>
            <a:xfrm>
              <a:off x="4100400" y="5783400"/>
              <a:ext cx="708120" cy="38412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737400" y="5788080"/>
              <a:ext cx="666720" cy="368280"/>
            </a:xfrm>
            <a:prstGeom prst="ellipse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190520" y="5757840"/>
              <a:ext cx="678240" cy="405000"/>
            </a:xfrm>
            <a:custGeom>
              <a:avLst/>
              <a:gdLst/>
              <a:ahLst/>
              <a:rect l="0" t="0" r="r" b="b"/>
              <a:pathLst>
                <a:path fill="none" w="1884" h="1125">
                  <a:moveTo>
                    <a:pt x="0" y="337"/>
                  </a:moveTo>
                  <a:lnTo>
                    <a:pt x="0" y="788"/>
                  </a:lnTo>
                  <a:lnTo>
                    <a:pt x="565" y="1125"/>
                  </a:lnTo>
                  <a:lnTo>
                    <a:pt x="1319" y="1125"/>
                  </a:lnTo>
                  <a:lnTo>
                    <a:pt x="1884" y="788"/>
                  </a:lnTo>
                  <a:lnTo>
                    <a:pt x="1884" y="337"/>
                  </a:lnTo>
                  <a:lnTo>
                    <a:pt x="1319" y="0"/>
                  </a:lnTo>
                  <a:lnTo>
                    <a:pt x="565" y="0"/>
                  </a:lnTo>
                  <a:lnTo>
                    <a:pt x="0" y="337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04800" y="5516640"/>
              <a:ext cx="80344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100320" y="1611360"/>
              <a:ext cx="1159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36720" y="2436840"/>
              <a:ext cx="0" cy="45576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2017800" y="2865600"/>
              <a:ext cx="630000" cy="160308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198960" y="2857680"/>
              <a:ext cx="636480" cy="161100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554360" y="2857680"/>
              <a:ext cx="611280" cy="160164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05440" y="2857680"/>
              <a:ext cx="527040" cy="159372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31120" y="4064040"/>
              <a:ext cx="513000" cy="309960"/>
            </a:xfrm>
            <a:custGeom>
              <a:avLst/>
              <a:gdLst/>
              <a:ahLst/>
              <a:rect l="0" t="0" r="r" b="b"/>
              <a:pathLst>
                <a:path fill="none" w="1425" h="861">
                  <a:moveTo>
                    <a:pt x="0" y="258"/>
                  </a:moveTo>
                  <a:lnTo>
                    <a:pt x="0" y="602"/>
                  </a:lnTo>
                  <a:lnTo>
                    <a:pt x="427" y="861"/>
                  </a:lnTo>
                  <a:lnTo>
                    <a:pt x="998" y="861"/>
                  </a:lnTo>
                  <a:lnTo>
                    <a:pt x="1425" y="602"/>
                  </a:lnTo>
                  <a:lnTo>
                    <a:pt x="1425" y="258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58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31120" y="4449600"/>
              <a:ext cx="513000" cy="311400"/>
            </a:xfrm>
            <a:custGeom>
              <a:avLst/>
              <a:gdLst/>
              <a:ahLst/>
              <a:rect l="0" t="0" r="r" b="b"/>
              <a:pathLst>
                <a:path fill="none" w="1425" h="865">
                  <a:moveTo>
                    <a:pt x="0" y="259"/>
                  </a:moveTo>
                  <a:lnTo>
                    <a:pt x="0" y="606"/>
                  </a:lnTo>
                  <a:lnTo>
                    <a:pt x="427" y="865"/>
                  </a:lnTo>
                  <a:lnTo>
                    <a:pt x="998" y="865"/>
                  </a:lnTo>
                  <a:lnTo>
                    <a:pt x="1425" y="606"/>
                  </a:lnTo>
                  <a:lnTo>
                    <a:pt x="1425" y="259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59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36880" y="4468680"/>
              <a:ext cx="5302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97320" y="4459320"/>
              <a:ext cx="530280" cy="32220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37240" y="4446720"/>
              <a:ext cx="5302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66920" y="4464000"/>
              <a:ext cx="511560" cy="313200"/>
            </a:xfrm>
            <a:custGeom>
              <a:avLst/>
              <a:gdLst/>
              <a:ahLst/>
              <a:rect l="0" t="0" r="r" b="b"/>
              <a:pathLst>
                <a:path fill="none" w="1421" h="870">
                  <a:moveTo>
                    <a:pt x="0" y="261"/>
                  </a:moveTo>
                  <a:lnTo>
                    <a:pt x="0" y="609"/>
                  </a:lnTo>
                  <a:lnTo>
                    <a:pt x="426" y="870"/>
                  </a:lnTo>
                  <a:lnTo>
                    <a:pt x="994" y="870"/>
                  </a:lnTo>
                  <a:lnTo>
                    <a:pt x="1421" y="609"/>
                  </a:lnTo>
                  <a:lnTo>
                    <a:pt x="1421" y="261"/>
                  </a:lnTo>
                  <a:lnTo>
                    <a:pt x="994" y="0"/>
                  </a:lnTo>
                  <a:lnTo>
                    <a:pt x="426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3840" y="446580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83120" y="445932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92960" y="2703600"/>
              <a:ext cx="511560" cy="311400"/>
            </a:xfrm>
            <a:custGeom>
              <a:avLst/>
              <a:gdLst/>
              <a:ahLst/>
              <a:rect l="0" t="0" r="r" b="b"/>
              <a:pathLst>
                <a:path fill="none" w="1421" h="865">
                  <a:moveTo>
                    <a:pt x="0" y="259"/>
                  </a:moveTo>
                  <a:lnTo>
                    <a:pt x="0" y="606"/>
                  </a:lnTo>
                  <a:lnTo>
                    <a:pt x="426" y="865"/>
                  </a:lnTo>
                  <a:lnTo>
                    <a:pt x="994" y="865"/>
                  </a:lnTo>
                  <a:lnTo>
                    <a:pt x="1421" y="606"/>
                  </a:lnTo>
                  <a:lnTo>
                    <a:pt x="1421" y="259"/>
                  </a:lnTo>
                  <a:lnTo>
                    <a:pt x="994" y="0"/>
                  </a:lnTo>
                  <a:lnTo>
                    <a:pt x="426" y="0"/>
                  </a:lnTo>
                  <a:lnTo>
                    <a:pt x="0" y="259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9320" y="147168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417920" y="1538280"/>
              <a:ext cx="677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13000" y="145728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83200" y="1471680"/>
              <a:ext cx="53172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25720" y="1471680"/>
              <a:ext cx="5302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6520" y="1468440"/>
              <a:ext cx="528480" cy="32220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41800" y="2263680"/>
              <a:ext cx="510120" cy="313200"/>
            </a:xfrm>
            <a:custGeom>
              <a:avLst/>
              <a:gdLst/>
              <a:ahLst/>
              <a:rect l="0" t="0" r="r" b="b"/>
              <a:pathLst>
                <a:path fill="none" w="1417" h="870">
                  <a:moveTo>
                    <a:pt x="0" y="261"/>
                  </a:moveTo>
                  <a:lnTo>
                    <a:pt x="0" y="609"/>
                  </a:lnTo>
                  <a:lnTo>
                    <a:pt x="425" y="870"/>
                  </a:lnTo>
                  <a:lnTo>
                    <a:pt x="991" y="870"/>
                  </a:lnTo>
                  <a:lnTo>
                    <a:pt x="1417" y="609"/>
                  </a:lnTo>
                  <a:lnTo>
                    <a:pt x="1417" y="261"/>
                  </a:lnTo>
                  <a:lnTo>
                    <a:pt x="991" y="0"/>
                  </a:lnTo>
                  <a:lnTo>
                    <a:pt x="425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5600" y="1849320"/>
              <a:ext cx="513000" cy="311400"/>
            </a:xfrm>
            <a:custGeom>
              <a:avLst/>
              <a:gdLst/>
              <a:ahLst/>
              <a:rect l="0" t="0" r="r" b="b"/>
              <a:pathLst>
                <a:path fill="none" w="1425" h="865">
                  <a:moveTo>
                    <a:pt x="0" y="259"/>
                  </a:moveTo>
                  <a:lnTo>
                    <a:pt x="0" y="606"/>
                  </a:lnTo>
                  <a:lnTo>
                    <a:pt x="427" y="865"/>
                  </a:lnTo>
                  <a:lnTo>
                    <a:pt x="998" y="865"/>
                  </a:lnTo>
                  <a:lnTo>
                    <a:pt x="1425" y="606"/>
                  </a:lnTo>
                  <a:lnTo>
                    <a:pt x="1425" y="259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59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84440" y="2268360"/>
              <a:ext cx="530280" cy="32220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4520" y="2260440"/>
              <a:ext cx="5284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37200" y="2251080"/>
              <a:ext cx="528480" cy="32220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109520" y="3862440"/>
              <a:ext cx="503280" cy="32220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03440" y="2881440"/>
              <a:ext cx="5284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95520" y="4464000"/>
              <a:ext cx="528480" cy="320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2280" y="2898720"/>
              <a:ext cx="513000" cy="311400"/>
            </a:xfrm>
            <a:custGeom>
              <a:avLst/>
              <a:gdLst/>
              <a:ahLst/>
              <a:rect l="0" t="0" r="r" b="b"/>
              <a:pathLst>
                <a:path fill="none" w="1425" h="865">
                  <a:moveTo>
                    <a:pt x="0" y="259"/>
                  </a:moveTo>
                  <a:lnTo>
                    <a:pt x="0" y="606"/>
                  </a:lnTo>
                  <a:lnTo>
                    <a:pt x="427" y="865"/>
                  </a:lnTo>
                  <a:lnTo>
                    <a:pt x="998" y="865"/>
                  </a:lnTo>
                  <a:lnTo>
                    <a:pt x="1425" y="606"/>
                  </a:lnTo>
                  <a:lnTo>
                    <a:pt x="1425" y="259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59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2280" y="4181400"/>
              <a:ext cx="513000" cy="308160"/>
            </a:xfrm>
            <a:custGeom>
              <a:avLst/>
              <a:gdLst/>
              <a:ahLst/>
              <a:rect l="0" t="0" r="r" b="b"/>
              <a:pathLst>
                <a:path fill="none" w="1425" h="856">
                  <a:moveTo>
                    <a:pt x="0" y="256"/>
                  </a:moveTo>
                  <a:lnTo>
                    <a:pt x="0" y="599"/>
                  </a:lnTo>
                  <a:lnTo>
                    <a:pt x="427" y="856"/>
                  </a:lnTo>
                  <a:lnTo>
                    <a:pt x="998" y="856"/>
                  </a:lnTo>
                  <a:lnTo>
                    <a:pt x="1425" y="599"/>
                  </a:lnTo>
                  <a:lnTo>
                    <a:pt x="1425" y="256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56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12800" y="3646440"/>
              <a:ext cx="511560" cy="311400"/>
            </a:xfrm>
            <a:custGeom>
              <a:avLst/>
              <a:gdLst/>
              <a:ahLst/>
              <a:rect l="0" t="0" r="r" b="b"/>
              <a:pathLst>
                <a:path fill="none" w="1421" h="865">
                  <a:moveTo>
                    <a:pt x="0" y="259"/>
                  </a:moveTo>
                  <a:lnTo>
                    <a:pt x="0" y="606"/>
                  </a:lnTo>
                  <a:lnTo>
                    <a:pt x="426" y="865"/>
                  </a:lnTo>
                  <a:lnTo>
                    <a:pt x="994" y="865"/>
                  </a:lnTo>
                  <a:lnTo>
                    <a:pt x="1421" y="606"/>
                  </a:lnTo>
                  <a:lnTo>
                    <a:pt x="1421" y="259"/>
                  </a:lnTo>
                  <a:lnTo>
                    <a:pt x="994" y="0"/>
                  </a:lnTo>
                  <a:lnTo>
                    <a:pt x="426" y="0"/>
                  </a:lnTo>
                  <a:lnTo>
                    <a:pt x="0" y="259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941400" y="3203640"/>
              <a:ext cx="0" cy="98568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1680" y="3062160"/>
              <a:ext cx="3985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66960" y="3192480"/>
              <a:ext cx="0" cy="45720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6960" y="3957480"/>
              <a:ext cx="0" cy="50976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4920" y="3411360"/>
              <a:ext cx="92556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47880" y="4640400"/>
              <a:ext cx="6523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12800" y="2276640"/>
              <a:ext cx="511560" cy="313200"/>
            </a:xfrm>
            <a:custGeom>
              <a:avLst/>
              <a:gdLst/>
              <a:ahLst/>
              <a:rect l="0" t="0" r="r" b="b"/>
              <a:pathLst>
                <a:path fill="none" w="1421" h="870">
                  <a:moveTo>
                    <a:pt x="0" y="261"/>
                  </a:moveTo>
                  <a:lnTo>
                    <a:pt x="0" y="609"/>
                  </a:lnTo>
                  <a:lnTo>
                    <a:pt x="426" y="870"/>
                  </a:lnTo>
                  <a:lnTo>
                    <a:pt x="994" y="870"/>
                  </a:lnTo>
                  <a:lnTo>
                    <a:pt x="1421" y="609"/>
                  </a:lnTo>
                  <a:lnTo>
                    <a:pt x="1421" y="261"/>
                  </a:lnTo>
                  <a:lnTo>
                    <a:pt x="994" y="0"/>
                  </a:lnTo>
                  <a:lnTo>
                    <a:pt x="426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73080" y="2581200"/>
              <a:ext cx="0" cy="29700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4920" y="2435400"/>
              <a:ext cx="6778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947880" y="4489560"/>
              <a:ext cx="0" cy="1508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1520" y="225108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2560" y="2435400"/>
              <a:ext cx="46656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11480" y="2416320"/>
              <a:ext cx="13176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51200" y="2421000"/>
              <a:ext cx="10944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86240" y="2405160"/>
              <a:ext cx="1285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4520" y="2405160"/>
              <a:ext cx="1141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44720" y="2154240"/>
              <a:ext cx="0" cy="1112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844720" y="1781280"/>
              <a:ext cx="0" cy="6516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24200" y="1614600"/>
              <a:ext cx="10152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59240" y="1631880"/>
              <a:ext cx="1080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71960" y="1625760"/>
              <a:ext cx="1080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2682720" y="1527120"/>
              <a:ext cx="384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o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2682720" y="2328840"/>
              <a:ext cx="3477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oi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4495680" y="2311560"/>
              <a:ext cx="679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5072040" y="1527120"/>
              <a:ext cx="541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ro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141880" y="2317680"/>
              <a:ext cx="5284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roc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818320" y="1544760"/>
              <a:ext cx="530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RID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5829480" y="2254320"/>
              <a:ext cx="495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I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LO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2560" y="2475000"/>
              <a:ext cx="403200" cy="41580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3440" y="2855880"/>
              <a:ext cx="3965760" cy="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48520" y="2685960"/>
              <a:ext cx="620640" cy="363600"/>
            </a:xfrm>
            <a:prstGeom prst="ellipse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07400" y="2855880"/>
              <a:ext cx="1504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7176960" y="2717640"/>
              <a:ext cx="61596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Dissolved Load Discha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22560" y="4627440"/>
              <a:ext cx="15084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73440" y="4619520"/>
              <a:ext cx="1666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62480" y="4627440"/>
              <a:ext cx="17604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41800" y="4624560"/>
              <a:ext cx="1602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4614840"/>
              <a:ext cx="1648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5760" y="4614840"/>
              <a:ext cx="1414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61040" y="4605480"/>
              <a:ext cx="3700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29320" y="3641760"/>
              <a:ext cx="513000" cy="313200"/>
            </a:xfrm>
            <a:custGeom>
              <a:avLst/>
              <a:gdLst/>
              <a:ahLst/>
              <a:rect l="0" t="0" r="r" b="b"/>
              <a:pathLst>
                <a:path fill="none" w="1425" h="870">
                  <a:moveTo>
                    <a:pt x="0" y="261"/>
                  </a:moveTo>
                  <a:lnTo>
                    <a:pt x="0" y="609"/>
                  </a:lnTo>
                  <a:lnTo>
                    <a:pt x="427" y="870"/>
                  </a:lnTo>
                  <a:lnTo>
                    <a:pt x="998" y="870"/>
                  </a:lnTo>
                  <a:lnTo>
                    <a:pt x="1425" y="609"/>
                  </a:lnTo>
                  <a:lnTo>
                    <a:pt x="1425" y="261"/>
                  </a:lnTo>
                  <a:lnTo>
                    <a:pt x="998" y="0"/>
                  </a:lnTo>
                  <a:lnTo>
                    <a:pt x="427" y="0"/>
                  </a:lnTo>
                  <a:lnTo>
                    <a:pt x="0" y="261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9040" y="3598920"/>
              <a:ext cx="635040" cy="369720"/>
            </a:xfrm>
            <a:prstGeom prst="ellipse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4408560"/>
              <a:ext cx="638280" cy="371520"/>
            </a:xfrm>
            <a:prstGeom prst="ellipse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39080" y="3798720"/>
              <a:ext cx="12996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39080" y="4605480"/>
              <a:ext cx="1458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4920" y="3970440"/>
              <a:ext cx="0" cy="10008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5560" y="4373640"/>
              <a:ext cx="0" cy="8568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14560" y="1831320"/>
              <a:ext cx="138600" cy="276840"/>
            </a:xfrm>
            <a:custGeom>
              <a:avLst/>
              <a:gdLst/>
              <a:ahLst/>
              <a:rect l="0" t="0" r="r" b="b"/>
              <a:pathLst>
                <a:path fill="none" w="385" h="769">
                  <a:moveTo>
                    <a:pt x="0" y="410"/>
                  </a:moveTo>
                  <a:lnTo>
                    <a:pt x="385" y="769"/>
                  </a:lnTo>
                  <a:lnTo>
                    <a:pt x="383" y="0"/>
                  </a:lnTo>
                  <a:lnTo>
                    <a:pt x="0" y="410"/>
                  </a:lnTo>
                </a:path>
              </a:pathLst>
            </a:custGeom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49920" y="1974960"/>
              <a:ext cx="73368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8394840" y="3641760"/>
              <a:ext cx="45720" cy="208080"/>
              <a:chOff x="8394840" y="3641760"/>
              <a:chExt cx="45720" cy="208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394840" y="3641760"/>
                <a:ext cx="0" cy="208080"/>
              </a:xfrm>
              <a:prstGeom prst="line">
                <a:avLst/>
              </a:prstGeom>
              <a:ln w="12600">
                <a:solidFill>
                  <a:srgbClr val="020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94840" y="3641760"/>
                <a:ext cx="45720" cy="109440"/>
              </a:xfrm>
              <a:prstGeom prst="line">
                <a:avLst/>
              </a:prstGeom>
              <a:ln w="12600">
                <a:solidFill>
                  <a:srgbClr val="020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8394840" y="3751200"/>
                <a:ext cx="45720" cy="93600"/>
              </a:xfrm>
              <a:prstGeom prst="line">
                <a:avLst/>
              </a:prstGeom>
              <a:ln w="12600">
                <a:solidFill>
                  <a:srgbClr val="0202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7905600" y="3746520"/>
              <a:ext cx="48276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875720" y="3740040"/>
              <a:ext cx="512640" cy="83052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7829640" y="2859120"/>
              <a:ext cx="565200" cy="88092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882800" y="5810400"/>
              <a:ext cx="1011240" cy="36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Transf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Proces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720" y="1301760"/>
              <a:ext cx="8050320" cy="494676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3800" y="1301760"/>
              <a:ext cx="1062000" cy="631800"/>
            </a:xfrm>
            <a:prstGeom prst="rect">
              <a:avLst/>
            </a:prstGeom>
            <a:noFill/>
            <a:ln w="12600">
              <a:solidFill>
                <a:srgbClr val="0202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7594560" y="1341360"/>
              <a:ext cx="957240" cy="8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OIL-COVE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LOPE ERO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16440" y="5821200"/>
              <a:ext cx="930240" cy="36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torag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7443720" y="5845320"/>
              <a:ext cx="782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174840" y="1514520"/>
              <a:ext cx="63504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Mixing, 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827520" y="1411200"/>
              <a:ext cx="60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aprol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2558880" y="1895400"/>
              <a:ext cx="6573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Creep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209760" y="2287440"/>
              <a:ext cx="63504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Mixing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851280" y="2311560"/>
              <a:ext cx="692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aprol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568520" y="2322360"/>
              <a:ext cx="6001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Creep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eathe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708120" y="2933640"/>
              <a:ext cx="55260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plash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Wa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50960" y="2909880"/>
              <a:ext cx="70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Hol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1616040" y="3659040"/>
              <a:ext cx="54144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Transition Slide 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708120" y="4213080"/>
              <a:ext cx="54144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Rill 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Gull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1557360" y="4478400"/>
              <a:ext cx="611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edi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in Tributa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Channel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260440" y="4467240"/>
              <a:ext cx="57456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Debris Flow, High Q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978280" y="4489560"/>
              <a:ext cx="6573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Debr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F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3664080" y="4456080"/>
              <a:ext cx="58896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Debr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Fan Ero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270320" y="4478400"/>
              <a:ext cx="622440" cy="43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ediment on Main Valley Flo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991040" y="4456080"/>
              <a:ext cx="58896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 and Bank Ero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5605560" y="4422600"/>
              <a:ext cx="642960" cy="43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Active Sediment in Main Chann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481800" y="2714760"/>
              <a:ext cx="5526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Dissolved Load Trans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505560" y="3659040"/>
              <a:ext cx="60012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7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uspended Load Transpor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540480" y="4051440"/>
              <a:ext cx="58752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 Material Attr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516720" y="4478400"/>
              <a:ext cx="63504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load Trans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203960" y="4467240"/>
              <a:ext cx="657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Bedload Discha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7180200" y="3625920"/>
              <a:ext cx="669960" cy="38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Suspended Load Dischar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27120" y="5551560"/>
              <a:ext cx="7934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MASS BALANCE FUNC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19320" y="3798720"/>
              <a:ext cx="44244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6880" y="3959280"/>
              <a:ext cx="2527200" cy="49680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30480" y="2587680"/>
              <a:ext cx="722160" cy="4604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46080" y="4638600"/>
              <a:ext cx="0" cy="22392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46080" y="4859280"/>
              <a:ext cx="3632400" cy="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583160" y="4776840"/>
              <a:ext cx="0" cy="824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46080" y="4859280"/>
              <a:ext cx="0" cy="9072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946080" y="4944960"/>
              <a:ext cx="4964040" cy="50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905440" y="4768920"/>
              <a:ext cx="0" cy="1760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4000" y="3876840"/>
              <a:ext cx="3786120" cy="57132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65520" y="4772160"/>
              <a:ext cx="35280" cy="44640"/>
            </a:xfrm>
            <a:custGeom>
              <a:avLst/>
              <a:gdLst/>
              <a:ahLst/>
              <a:rect l="0" t="0" r="r" b="b"/>
              <a:pathLst>
                <a:path w="98" h="124">
                  <a:moveTo>
                    <a:pt x="0" y="124"/>
                  </a:moveTo>
                  <a:lnTo>
                    <a:pt x="98" y="124"/>
                  </a:lnTo>
                  <a:lnTo>
                    <a:pt x="48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88160" y="475920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65280" y="4616280"/>
              <a:ext cx="44640" cy="35280"/>
            </a:xfrm>
            <a:custGeom>
              <a:avLst/>
              <a:gdLst/>
              <a:ahLst/>
              <a:rect l="0" t="0" r="r" b="b"/>
              <a:pathLst>
                <a:path w="124" h="98">
                  <a:moveTo>
                    <a:pt x="0" y="98"/>
                  </a:moveTo>
                  <a:lnTo>
                    <a:pt x="124" y="98"/>
                  </a:lnTo>
                  <a:lnTo>
                    <a:pt x="61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9320" y="443556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1960" y="4599000"/>
              <a:ext cx="43200" cy="35280"/>
            </a:xfrm>
            <a:custGeom>
              <a:avLst/>
              <a:gdLst/>
              <a:ahLst/>
              <a:rect l="0" t="0" r="r" b="b"/>
              <a:pathLst>
                <a:path w="120" h="98">
                  <a:moveTo>
                    <a:pt x="0" y="98"/>
                  </a:moveTo>
                  <a:lnTo>
                    <a:pt x="120" y="98"/>
                  </a:lnTo>
                  <a:lnTo>
                    <a:pt x="59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4200" y="4603680"/>
              <a:ext cx="44640" cy="35280"/>
            </a:xfrm>
            <a:custGeom>
              <a:avLst/>
              <a:gdLst/>
              <a:ahLst/>
              <a:rect l="0" t="0" r="r" b="b"/>
              <a:pathLst>
                <a:path w="124" h="98">
                  <a:moveTo>
                    <a:pt x="0" y="98"/>
                  </a:moveTo>
                  <a:lnTo>
                    <a:pt x="124" y="98"/>
                  </a:lnTo>
                  <a:lnTo>
                    <a:pt x="61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0520" y="4595760"/>
              <a:ext cx="43200" cy="33840"/>
            </a:xfrm>
            <a:custGeom>
              <a:avLst/>
              <a:gdLst/>
              <a:ahLst/>
              <a:rect l="0" t="0" r="r" b="b"/>
              <a:pathLst>
                <a:path w="120" h="94">
                  <a:moveTo>
                    <a:pt x="0" y="94"/>
                  </a:moveTo>
                  <a:lnTo>
                    <a:pt x="120" y="94"/>
                  </a:lnTo>
                  <a:lnTo>
                    <a:pt x="59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36720" y="3389400"/>
              <a:ext cx="44640" cy="33840"/>
            </a:xfrm>
            <a:custGeom>
              <a:avLst/>
              <a:gdLst/>
              <a:ahLst/>
              <a:rect l="0" t="0" r="r" b="b"/>
              <a:pathLst>
                <a:path w="124" h="94">
                  <a:moveTo>
                    <a:pt x="0" y="94"/>
                  </a:moveTo>
                  <a:lnTo>
                    <a:pt x="124" y="94"/>
                  </a:lnTo>
                  <a:lnTo>
                    <a:pt x="61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74640" y="3038400"/>
              <a:ext cx="43200" cy="35280"/>
            </a:xfrm>
            <a:custGeom>
              <a:avLst/>
              <a:gdLst/>
              <a:ahLst/>
              <a:rect l="0" t="0" r="r" b="b"/>
              <a:pathLst>
                <a:path w="120" h="98">
                  <a:moveTo>
                    <a:pt x="0" y="98"/>
                  </a:moveTo>
                  <a:lnTo>
                    <a:pt x="120" y="98"/>
                  </a:lnTo>
                  <a:lnTo>
                    <a:pt x="59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54360" y="285264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27440" y="2233440"/>
              <a:ext cx="35280" cy="44640"/>
            </a:xfrm>
            <a:custGeom>
              <a:avLst/>
              <a:gdLst/>
              <a:ahLst/>
              <a:rect l="0" t="0" r="r" b="b"/>
              <a:pathLst>
                <a:path w="98" h="124">
                  <a:moveTo>
                    <a:pt x="0" y="124"/>
                  </a:moveTo>
                  <a:lnTo>
                    <a:pt x="98" y="124"/>
                  </a:lnTo>
                  <a:lnTo>
                    <a:pt x="48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5840" y="395136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058080" y="3808440"/>
              <a:ext cx="209520" cy="6476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241960" y="3803760"/>
              <a:ext cx="257040" cy="6620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92680" y="3803760"/>
              <a:ext cx="258480" cy="6620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17840" y="3803760"/>
              <a:ext cx="266760" cy="662040"/>
            </a:xfrm>
            <a:prstGeom prst="line">
              <a:avLst/>
            </a:prstGeom>
            <a:ln w="12600">
              <a:solidFill>
                <a:srgbClr val="020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7080" y="3799440"/>
              <a:ext cx="40680" cy="40320"/>
            </a:xfrm>
            <a:custGeom>
              <a:avLst/>
              <a:gdLst/>
              <a:ahLst/>
              <a:rect l="0" t="0" r="r" b="b"/>
              <a:pathLst>
                <a:path w="113" h="112">
                  <a:moveTo>
                    <a:pt x="70" y="112"/>
                  </a:moveTo>
                  <a:lnTo>
                    <a:pt x="113" y="0"/>
                  </a:lnTo>
                  <a:lnTo>
                    <a:pt x="0" y="2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30280" y="3798720"/>
              <a:ext cx="41040" cy="41760"/>
            </a:xfrm>
            <a:custGeom>
              <a:avLst/>
              <a:gdLst/>
              <a:ahLst/>
              <a:rect l="0" t="0" r="r" b="b"/>
              <a:pathLst>
                <a:path w="114" h="116">
                  <a:moveTo>
                    <a:pt x="69" y="116"/>
                  </a:moveTo>
                  <a:lnTo>
                    <a:pt x="114" y="0"/>
                  </a:lnTo>
                  <a:lnTo>
                    <a:pt x="0" y="22"/>
                  </a:lnTo>
                  <a:lnTo>
                    <a:pt x="69" y="11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8840" y="3799440"/>
              <a:ext cx="40680" cy="40320"/>
            </a:xfrm>
            <a:custGeom>
              <a:avLst/>
              <a:gdLst/>
              <a:ahLst/>
              <a:rect l="0" t="0" r="r" b="b"/>
              <a:pathLst>
                <a:path w="113" h="112">
                  <a:moveTo>
                    <a:pt x="70" y="112"/>
                  </a:moveTo>
                  <a:lnTo>
                    <a:pt x="113" y="0"/>
                  </a:lnTo>
                  <a:lnTo>
                    <a:pt x="0" y="2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3360" y="3798720"/>
              <a:ext cx="41040" cy="41760"/>
            </a:xfrm>
            <a:custGeom>
              <a:avLst/>
              <a:gdLst/>
              <a:ahLst/>
              <a:rect l="0" t="0" r="r" b="b"/>
              <a:pathLst>
                <a:path w="114" h="116">
                  <a:moveTo>
                    <a:pt x="69" y="116"/>
                  </a:moveTo>
                  <a:lnTo>
                    <a:pt x="114" y="0"/>
                  </a:lnTo>
                  <a:lnTo>
                    <a:pt x="0" y="22"/>
                  </a:lnTo>
                  <a:lnTo>
                    <a:pt x="69" y="11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4320" y="2881800"/>
              <a:ext cx="40680" cy="40320"/>
            </a:xfrm>
            <a:custGeom>
              <a:avLst/>
              <a:gdLst/>
              <a:ahLst/>
              <a:rect l="0" t="0" r="r" b="b"/>
              <a:pathLst>
                <a:path w="113" h="112">
                  <a:moveTo>
                    <a:pt x="70" y="112"/>
                  </a:moveTo>
                  <a:lnTo>
                    <a:pt x="113" y="0"/>
                  </a:lnTo>
                  <a:lnTo>
                    <a:pt x="0" y="2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8360" y="2893680"/>
              <a:ext cx="41040" cy="41760"/>
            </a:xfrm>
            <a:custGeom>
              <a:avLst/>
              <a:gdLst/>
              <a:ahLst/>
              <a:rect l="0" t="0" r="r" b="b"/>
              <a:pathLst>
                <a:path w="114" h="116">
                  <a:moveTo>
                    <a:pt x="69" y="116"/>
                  </a:moveTo>
                  <a:lnTo>
                    <a:pt x="114" y="0"/>
                  </a:lnTo>
                  <a:lnTo>
                    <a:pt x="0" y="22"/>
                  </a:lnTo>
                  <a:lnTo>
                    <a:pt x="69" y="11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4400" y="2873880"/>
              <a:ext cx="40680" cy="40320"/>
            </a:xfrm>
            <a:custGeom>
              <a:avLst/>
              <a:gdLst/>
              <a:ahLst/>
              <a:rect l="0" t="0" r="r" b="b"/>
              <a:pathLst>
                <a:path w="113" h="112">
                  <a:moveTo>
                    <a:pt x="70" y="112"/>
                  </a:moveTo>
                  <a:lnTo>
                    <a:pt x="113" y="0"/>
                  </a:lnTo>
                  <a:lnTo>
                    <a:pt x="0" y="2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7640" y="2856600"/>
              <a:ext cx="40680" cy="40320"/>
            </a:xfrm>
            <a:custGeom>
              <a:avLst/>
              <a:gdLst/>
              <a:ahLst/>
              <a:rect l="0" t="0" r="r" b="b"/>
              <a:pathLst>
                <a:path w="113" h="112">
                  <a:moveTo>
                    <a:pt x="70" y="112"/>
                  </a:moveTo>
                  <a:lnTo>
                    <a:pt x="113" y="0"/>
                  </a:lnTo>
                  <a:lnTo>
                    <a:pt x="0" y="20"/>
                  </a:lnTo>
                  <a:lnTo>
                    <a:pt x="70" y="11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02120" y="2394000"/>
              <a:ext cx="44640" cy="35280"/>
            </a:xfrm>
            <a:custGeom>
              <a:avLst/>
              <a:gdLst/>
              <a:ahLst/>
              <a:rect l="0" t="0" r="r" b="b"/>
              <a:pathLst>
                <a:path w="124" h="98">
                  <a:moveTo>
                    <a:pt x="0" y="98"/>
                  </a:moveTo>
                  <a:lnTo>
                    <a:pt x="124" y="98"/>
                  </a:lnTo>
                  <a:lnTo>
                    <a:pt x="61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63920" y="2381400"/>
              <a:ext cx="44640" cy="35280"/>
            </a:xfrm>
            <a:custGeom>
              <a:avLst/>
              <a:gdLst/>
              <a:ahLst/>
              <a:rect l="0" t="0" r="r" b="b"/>
              <a:pathLst>
                <a:path w="124" h="98">
                  <a:moveTo>
                    <a:pt x="0" y="98"/>
                  </a:moveTo>
                  <a:lnTo>
                    <a:pt x="124" y="98"/>
                  </a:lnTo>
                  <a:lnTo>
                    <a:pt x="61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0280" y="2571840"/>
              <a:ext cx="0" cy="26820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0360" y="2571840"/>
              <a:ext cx="0" cy="26820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762440" y="1784520"/>
              <a:ext cx="0" cy="44604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490920" y="1771560"/>
              <a:ext cx="0" cy="46692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106800" y="2004840"/>
              <a:ext cx="1646280" cy="5040"/>
            </a:xfrm>
            <a:prstGeom prst="line">
              <a:avLst/>
            </a:prstGeom>
            <a:ln w="12600">
              <a:solidFill>
                <a:srgbClr val="0202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83000" y="282744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3080" y="282240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10240" y="1982880"/>
              <a:ext cx="43200" cy="35280"/>
            </a:xfrm>
            <a:custGeom>
              <a:avLst/>
              <a:gdLst/>
              <a:ahLst/>
              <a:rect l="0" t="0" r="r" b="b"/>
              <a:pathLst>
                <a:path w="120" h="98">
                  <a:moveTo>
                    <a:pt x="0" y="98"/>
                  </a:moveTo>
                  <a:lnTo>
                    <a:pt x="120" y="98"/>
                  </a:lnTo>
                  <a:lnTo>
                    <a:pt x="59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43400" y="1611360"/>
              <a:ext cx="43200" cy="35280"/>
            </a:xfrm>
            <a:custGeom>
              <a:avLst/>
              <a:gdLst/>
              <a:ahLst/>
              <a:rect l="0" t="0" r="r" b="b"/>
              <a:pathLst>
                <a:path w="120" h="98">
                  <a:moveTo>
                    <a:pt x="0" y="98"/>
                  </a:moveTo>
                  <a:lnTo>
                    <a:pt x="120" y="98"/>
                  </a:lnTo>
                  <a:lnTo>
                    <a:pt x="59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94200" y="1590840"/>
              <a:ext cx="43200" cy="33840"/>
            </a:xfrm>
            <a:custGeom>
              <a:avLst/>
              <a:gdLst/>
              <a:ahLst/>
              <a:rect l="0" t="0" r="r" b="b"/>
              <a:pathLst>
                <a:path w="120" h="94">
                  <a:moveTo>
                    <a:pt x="0" y="94"/>
                  </a:moveTo>
                  <a:lnTo>
                    <a:pt x="120" y="94"/>
                  </a:lnTo>
                  <a:lnTo>
                    <a:pt x="59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73280" y="2233440"/>
              <a:ext cx="35280" cy="44640"/>
            </a:xfrm>
            <a:custGeom>
              <a:avLst/>
              <a:gdLst/>
              <a:ahLst/>
              <a:rect l="0" t="0" r="r" b="b"/>
              <a:pathLst>
                <a:path w="98" h="124">
                  <a:moveTo>
                    <a:pt x="0" y="124"/>
                  </a:moveTo>
                  <a:lnTo>
                    <a:pt x="98" y="124"/>
                  </a:lnTo>
                  <a:lnTo>
                    <a:pt x="48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45160" y="2220840"/>
              <a:ext cx="35280" cy="43200"/>
            </a:xfrm>
            <a:custGeom>
              <a:avLst/>
              <a:gdLst/>
              <a:ahLst/>
              <a:rect l="0" t="0" r="r" b="b"/>
              <a:pathLst>
                <a:path w="98" h="120">
                  <a:moveTo>
                    <a:pt x="0" y="120"/>
                  </a:moveTo>
                  <a:lnTo>
                    <a:pt x="98" y="120"/>
                  </a:lnTo>
                  <a:lnTo>
                    <a:pt x="48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202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6827760" y="1797120"/>
              <a:ext cx="490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INP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8129520" y="4054320"/>
              <a:ext cx="557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800" spc="-1" strike="noStrike">
                  <a:solidFill>
                    <a:srgbClr val="020200"/>
                  </a:solidFill>
                  <a:latin typeface="Univers (W1)"/>
                  <a:ea typeface="Univers (W1)"/>
                </a:rPr>
                <a:t>OUTPU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831960" y="449280"/>
            <a:ext cx="1335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20200"/>
                </a:solidFill>
                <a:latin typeface="Arial"/>
                <a:ea typeface="Arial"/>
              </a:rPr>
              <a:t>e:figures:sedbud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A. GUSTIN</dc:creator>
  <dc:description/>
  <dc:language>en-US</dc:language>
  <cp:lastModifiedBy>WILLIAM A. GUSTIN</cp:lastModifiedBy>
  <cp:revision>0</cp:revision>
  <dc:subject/>
  <dc:title>No Slide Title</dc:title>
</cp:coreProperties>
</file>